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134-D6AF-4392-847E-34D3D758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84C-65B3-4144-B4AC-785A89AB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00C-46C2-4554-983E-8CDE65FA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3AF-4EA7-4028-A3FB-6E616958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C3C9-9644-400D-A035-8BF5DAA6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FF45-710A-43AE-BD0A-154C0BB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B891-9205-4EAC-8FA2-69E5BF79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3666-8B4E-4BC8-881D-353601C9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9BC-494E-434E-B62E-12447757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D17A-07F1-4CC6-85B8-3B3B0593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FC49-7A3F-429F-86D4-619752A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E8D-4322-4B29-9A2C-E54DFF8B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6241-0069-4E2C-BBB5-5642FA7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6270-71FD-4E8B-AA74-BB60CC7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4FF-60F9-4A45-B809-4A7B60A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93D6-FDFC-4B9B-821F-9144CBBD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C73-1067-4312-B8B9-D30A3EE9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179-69DB-42E1-9FC5-1522225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819-4156-49E5-B822-A134F96F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EF4-4C1D-427A-B29F-FF03C2B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852-1DBE-42F6-ABB8-7F6DE5B0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419-D303-4795-9AD9-A28C76C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846-A401-48E1-96C4-4AFFA04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1BB-6337-41A8-A313-7E8F791B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5C1A-8749-4AEF-9B80-0AB402CCAB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5A7-C779-4921-BA36-8538B6C7B7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rodalmiakademia.hu/" TargetMode="External"/><Relationship Id="rId2" Type="http://schemas.openxmlformats.org/officeDocument/2006/relationships/hyperlink" Target="http://www.irodalmiakademia.hu/" TargetMode="External"/><Relationship Id="rId3" Type="http://schemas.openxmlformats.org/officeDocument/2006/relationships/hyperlink" Target="http://www.mek.iif.hu/porta/szint/human/szepirod/" TargetMode="External"/><Relationship Id="rId4" Type="http://schemas.openxmlformats.org/officeDocument/2006/relationships/hyperlink" Target="http://www.mek.iif.hu/porta/szint/human/szepirod/" TargetMode="External"/><Relationship Id="rId5" Type="http://schemas.openxmlformats.org/officeDocument/2006/relationships/hyperlink" Target="http://www.litera.hu/" TargetMode="External"/><Relationship Id="rId6" Type="http://schemas.openxmlformats.org/officeDocument/2006/relationships/hyperlink" Target="http://www.litera.hu/" TargetMode="External"/><Relationship Id="rId7" Type="http://schemas.openxmlformats.org/officeDocument/2006/relationships/hyperlink" Target="http://www.sulinet.hu/tananyag/97102/on/igyjo/index.htm" TargetMode="External"/><Relationship Id="rId8" Type="http://schemas.openxmlformats.org/officeDocument/2006/relationships/hyperlink" Target="http://magyar-irodalom.elte.hu/repertorium/" TargetMode="External"/><Relationship Id="rId9" Type="http://schemas.openxmlformats.org/officeDocument/2006/relationships/hyperlink" Target="http://mazsola.iit.uni-miskolc.hu/biblia/" TargetMode="External"/><Relationship Id="rId10" Type="http://schemas.openxmlformats.org/officeDocument/2006/relationships/hyperlink" Target="http://mazsola.iit.uni-miskolc.hu/biblia/" TargetMode="External"/><Relationship Id="rId11" Type="http://schemas.openxmlformats.org/officeDocument/2006/relationships/hyperlink" Target="http://mazsola.iit.uni-miskolc.hu/biblia/" TargetMode="External"/><Relationship Id="rId12" Type="http://schemas.openxmlformats.org/officeDocument/2006/relationships/hyperlink" Target="http://www.dokk.hu/versek/versek.php3" TargetMode="External"/><Relationship Id="rId13" Type="http://schemas.openxmlformats.org/officeDocument/2006/relationships/hyperlink" Target="http://kosbor.musicpage.com/" TargetMode="External"/><Relationship Id="rId14" Type="http://schemas.openxmlformats.org/officeDocument/2006/relationships/hyperlink" Target="http://kosbor.musicpage.com/" TargetMode="External"/><Relationship Id="rId15" Type="http://schemas.openxmlformats.org/officeDocument/2006/relationships/hyperlink" Target="http://magyar-irodalom.elte.hu/gepesk/index/" TargetMode="External"/><Relationship Id="rId16" Type="http://schemas.openxmlformats.org/officeDocument/2006/relationships/hyperlink" Target="http://magyar-irodalom.elte.hu/gepesk/index/" TargetMode="External"/><Relationship Id="rId17" Type="http://schemas.openxmlformats.org/officeDocument/2006/relationships/hyperlink" Target="http://magyar-irodalom.elte.hu/gepesk/index/" TargetMode="External"/><Relationship Id="rId18" Type="http://schemas.openxmlformats.org/officeDocument/2006/relationships/hyperlink" Target="http://magyar-irodalom.elte.hu/gepesk/index/" TargetMode="External"/><Relationship Id="rId19" Type="http://schemas.openxmlformats.org/officeDocument/2006/relationships/hyperlink" Target="http://magyar-irodalom.elte.hu/gepesk/index/" TargetMode="External"/><Relationship Id="rId20" Type="http://schemas.openxmlformats.org/officeDocument/2006/relationships/hyperlink" Target="http://magyar-irodalom.elte.hu/gepesk/index/" TargetMode="External"/><Relationship Id="rId21" Type="http://schemas.openxmlformats.org/officeDocument/2006/relationships/hyperlink" Target="http://www.kontextus.hu/kia/kia.php" TargetMode="External"/><Relationship Id="rId22" Type="http://schemas.openxmlformats.org/officeDocument/2006/relationships/hyperlink" Target="http://www.kontextus.hu/" TargetMode="External"/><Relationship Id="rId23" Type="http://schemas.openxmlformats.org/officeDocument/2006/relationships/hyperlink" Target="http://www.kontextus.hu/" TargetMode="External"/><Relationship Id="rId24" Type="http://schemas.openxmlformats.org/officeDocument/2006/relationships/hyperlink" Target="http://www.sztaki.hu/~blb/irodalom/" TargetMode="External"/><Relationship Id="rId25" Type="http://schemas.openxmlformats.org/officeDocument/2006/relationships/hyperlink" Target="http://www.sztaki.hu/~blb/irodalom/" TargetMode="External"/><Relationship Id="rId26" Type="http://schemas.openxmlformats.org/officeDocument/2006/relationships/hyperlink" Target="http://www.sztaki.hu/~blb/irodalom/" TargetMode="External"/><Relationship Id="rId27" Type="http://schemas.openxmlformats.org/officeDocument/2006/relationships/hyperlink" Target="http://www.freeweb.hu/magyartanarok/konyvajanlo.html" TargetMode="External"/><Relationship Id="rId28" Type="http://schemas.openxmlformats.org/officeDocument/2006/relationships/hyperlink" Target="http://gizi.dote.hu/~hajnal/hunlit.html" TargetMode="External"/><Relationship Id="rId29" Type="http://schemas.openxmlformats.org/officeDocument/2006/relationships/hyperlink" Target="http://www.mek.iif.hu/porta/szint/human/szepirod/magyar/nyugat" TargetMode="External"/><Relationship Id="rId30" Type="http://schemas.openxmlformats.org/officeDocument/2006/relationships/hyperlink" Target="http://www.hhrf.org/ungparty/pansip/" TargetMode="External"/><Relationship Id="rId31" Type="http://schemas.openxmlformats.org/officeDocument/2006/relationships/hyperlink" Target="http://www.palatabla.zenith.org.yu/" TargetMode="External"/><Relationship Id="rId32" Type="http://schemas.openxmlformats.org/officeDocument/2006/relationships/hyperlink" Target="http://www.nytud.hu/hhc/" TargetMode="External"/><Relationship Id="rId33" Type="http://schemas.openxmlformats.org/officeDocument/2006/relationships/hyperlink" Target="http://mnytud.arts.klte.hu/kiadvany.htm" TargetMode="External"/><Relationship Id="rId34" Type="http://schemas.openxmlformats.org/officeDocument/2006/relationships/hyperlink" Target="http://www.lib.jgytf.u-szeged.hu/edes_anyanyelvunk/" TargetMode="External"/><Relationship Id="rId35" Type="http://schemas.openxmlformats.org/officeDocument/2006/relationships/hyperlink" Target="http://www.c3.hu/~magyarnyelv/" TargetMode="External"/><Relationship Id="rId36" Type="http://schemas.openxmlformats.org/officeDocument/2006/relationships/hyperlink" Target="http://www.c3.hu/~nyelvor/nyr.htm" TargetMode="External"/><Relationship Id="rId37" Type="http://schemas.openxmlformats.org/officeDocument/2006/relationships/hyperlink" Target="http://mnytud.arts.klte.hu/szleng/hu_slang.htm" TargetMode="External"/><Relationship Id="rId38" Type="http://schemas.openxmlformats.org/officeDocument/2006/relationships/hyperlink" Target="http://www.mek.iif.hu/porta/szint/tarsad/nyelvtud/" TargetMode="External"/><Relationship Id="rId39" Type="http://schemas.openxmlformats.org/officeDocument/2006/relationships/hyperlink" Target="http://mnytud.arts.klte.hu/sznyta.htm" TargetMode="External"/><Relationship Id="rId40" Type="http://schemas.openxmlformats.org/officeDocument/2006/relationships/hyperlink" Target="http://www.mek.iif.hu/porta/szint/egyeb/szotar/" TargetMode="External"/><Relationship Id="rId4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xs4all.nl/~androom/museums.htm" TargetMode="External"/><Relationship Id="rId2" Type="http://schemas.openxmlformats.org/officeDocument/2006/relationships/hyperlink" Target="http://www.kfki.hu/keptar/" TargetMode="External"/><Relationship Id="rId3" Type="http://schemas.openxmlformats.org/officeDocument/2006/relationships/hyperlink" Target="http://www.kfki.hu/~arthp/html/" TargetMode="External"/><Relationship Id="rId4" Type="http://schemas.openxmlformats.org/officeDocument/2006/relationships/hyperlink" Target="http://www.kfki.hu/~arthp/html/" TargetMode="External"/><Relationship Id="rId5" Type="http://schemas.openxmlformats.org/officeDocument/2006/relationships/hyperlink" Target="http://www.kfki.hu/~arthp/html/" TargetMode="External"/><Relationship Id="rId6" Type="http://schemas.openxmlformats.org/officeDocument/2006/relationships/hyperlink" Target="http://www.freeweb.hu/magyartanarok/cikk.html" TargetMode="External"/><Relationship Id="rId7" Type="http://schemas.openxmlformats.org/officeDocument/2006/relationships/hyperlink" Target="http://www.kfki.hu/(hu)/edu/okt.html" TargetMode="External"/><Relationship Id="rId8" Type="http://schemas.openxmlformats.org/officeDocument/2006/relationships/hyperlink" Target="http://www.gyermeksziget.hu/" TargetMode="External"/><Relationship Id="rId9" Type="http://schemas.openxmlformats.org/officeDocument/2006/relationships/hyperlink" Target="http://www.vkdebrecen.c3.hu/alfold/" TargetMode="External"/><Relationship Id="rId10" Type="http://schemas.openxmlformats.org/officeDocument/2006/relationships/hyperlink" Target="http://www.es.hu/" TargetMode="External"/><Relationship Id="rId11" Type="http://schemas.openxmlformats.org/officeDocument/2006/relationships/hyperlink" Target="http://www.iskolakultura.hu/" TargetMode="External"/><Relationship Id="rId12" Type="http://schemas.openxmlformats.org/officeDocument/2006/relationships/hyperlink" Target="http://liget.grafium.hu/" TargetMode="External"/><Relationship Id="rId13" Type="http://schemas.openxmlformats.org/officeDocument/2006/relationships/hyperlink" Target="http://www.mek.iif.hu/porta/szint/human/szepirod/magyar/nyugat" TargetMode="External"/><Relationship Id="rId14" Type="http://schemas.openxmlformats.org/officeDocument/2006/relationships/hyperlink" Target="http://www.fph.hu/bphome/" TargetMode="External"/><Relationship Id="rId15" Type="http://schemas.openxmlformats.org/officeDocument/2006/relationships/hyperlink" Target="http://www.fovpi.hu/" TargetMode="External"/><Relationship Id="rId16" Type="http://schemas.openxmlformats.org/officeDocument/2006/relationships/hyperlink" Target="http://jelenkor.com/" TargetMode="External"/><Relationship Id="rId17" Type="http://schemas.openxmlformats.org/officeDocument/2006/relationships/hyperlink" Target="http://www.kossuth-klub.hu/" TargetMode="External"/><Relationship Id="rId18" Type="http://schemas.openxmlformats.org/officeDocument/2006/relationships/hyperlink" Target="http://server.pedint-szfvar.sulinet.hu/kte/" TargetMode="External"/><Relationship Id="rId19" Type="http://schemas.openxmlformats.org/officeDocument/2006/relationships/hyperlink" Target="http://server.pedint-szfvar.sulinet.hu/kte/" TargetMode="External"/><Relationship Id="rId20" Type="http://schemas.openxmlformats.org/officeDocument/2006/relationships/hyperlink" Target="http://www.oki.hu/" TargetMode="External"/><Relationship Id="rId21" Type="http://schemas.openxmlformats.org/officeDocument/2006/relationships/hyperlink" Target="http://www.om.hu/" TargetMode="External"/><Relationship Id="rId22" Type="http://schemas.openxmlformats.org/officeDocument/2006/relationships/hyperlink" Target="http://www.opkm.hu/" TargetMode="External"/><Relationship Id="rId23" Type="http://schemas.openxmlformats.org/officeDocument/2006/relationships/hyperlink" Target="http://www.osztalyfonok.hu/" TargetMode="External"/><Relationship Id="rId24" Type="http://schemas.openxmlformats.org/officeDocument/2006/relationships/hyperlink" Target="http://www.pontkiado.hu/" TargetMode="External"/><Relationship Id="rId25" Type="http://schemas.openxmlformats.org/officeDocument/2006/relationships/hyperlink" Target="http://www.sulinet.hu/" TargetMode="External"/><Relationship Id="rId26" Type="http://schemas.openxmlformats.org/officeDocument/2006/relationships/hyperlink" Target="http://www.tte.hu/" TargetMode="External"/><Relationship Id="rId27" Type="http://schemas.openxmlformats.org/officeDocument/2006/relationships/hyperlink" Target="http://www.wahoo.hu/index/1898" TargetMode="External"/><Relationship Id="rId28" Type="http://schemas.openxmlformats.org/officeDocument/2006/relationships/hyperlink" Target="http://www.wahoo.hu/index/1898" TargetMode="External"/><Relationship Id="rId29" Type="http://schemas.openxmlformats.org/officeDocument/2006/relationships/hyperlink" Target="http://www.wahoo.hu/index/1898" TargetMode="External"/><Relationship Id="rId30" Type="http://schemas.openxmlformats.org/officeDocument/2006/relationships/hyperlink" Target="http://stand.euroweb.hu/parts.asp?k=Kult&#250;ra" TargetMode="External"/><Relationship Id="rId31" Type="http://schemas.openxmlformats.org/officeDocument/2006/relationships/hyperlink" Target="http://www.port.hu/kultura/" TargetMode="External"/><Relationship Id="rId32" Type="http://schemas.openxmlformats.org/officeDocument/2006/relationships/hyperlink" Target="http://lap.hu/" TargetMode="External"/><Relationship Id="rId33" Type="http://schemas.openxmlformats.org/officeDocument/2006/relationships/hyperlink" Target="http://lap.hu/" TargetMode="External"/><Relationship Id="rId34" Type="http://schemas.openxmlformats.org/officeDocument/2006/relationships/hyperlink" Target="http://lap.hu/" TargetMode="External"/><Relationship Id="rId35" Type="http://schemas.openxmlformats.org/officeDocument/2006/relationships/hyperlink" Target="http://lap.hu/" TargetMode="External"/><Relationship Id="rId36" Type="http://schemas.openxmlformats.org/officeDocument/2006/relationships/hyperlink" Target="http://lap.hu/" TargetMode="External"/><Relationship Id="rId3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gyarirodalom.lap.hu/" TargetMode="External"/><Relationship Id="rId2" Type="http://schemas.openxmlformats.org/officeDocument/2006/relationships/hyperlink" Target="http://magyarirodalom.lap.hu/" TargetMode="External"/><Relationship Id="rId3" Type="http://schemas.openxmlformats.org/officeDocument/2006/relationships/hyperlink" Target="http://www.emir.h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oki.hu/cikk.php?kod=informatika-Bondor-Hazai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vendegvaro.hu/31-10225" TargetMode="External"/><Relationship Id="rId2" Type="http://schemas.openxmlformats.org/officeDocument/2006/relationships/hyperlink" Target="http://www.vendegvaro.hu/33-14" TargetMode="External"/><Relationship Id="rId3" Type="http://schemas.openxmlformats.org/officeDocument/2006/relationships/hyperlink" Target="http://www.vendegvaro.hu/32-991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jdics%20Gy&#337;z&#337;/Dokumentumok/Manye%20Si&#243;fok/szerzo" TargetMode="External"/><Relationship Id="rId2" Type="http://schemas.openxmlformats.org/officeDocument/2006/relationships/hyperlink" Target="http://mek.oszk.hu/00900/00945/html/" TargetMode="External"/><Relationship Id="rId3" Type="http://schemas.openxmlformats.org/officeDocument/2006/relationships/hyperlink" Target="http://mek.oszk.hu/html/vgi/kereses/kereses.phtml?id=945&amp;table=dc_subject&amp;mezo=topic&amp;mezoertek1=szepi&amp;mezoertek2=szepi030" TargetMode="External"/><Relationship Id="rId4" Type="http://schemas.openxmlformats.org/officeDocument/2006/relationships/hyperlink" Target="http://mek.oszk.hu/00900/00945/" TargetMode="External"/><Relationship Id="rId5" Type="http://schemas.openxmlformats.org/officeDocument/2006/relationships/hyperlink" Target="http://mek.oszk.hu/html/vgi/kereses/kereses.phtml?id=945&amp;table=dc_subject&amp;mezo=keyword&amp;mezoertek1=magyar+irodalom&amp;mezoertek2=&apos;&apos;" TargetMode="External"/><Relationship Id="rId6" Type="http://schemas.openxmlformats.org/officeDocument/2006/relationships/hyperlink" Target="http://mek.oszk.hu/00900/00945/" TargetMode="External"/><Relationship Id="rId7" Type="http://schemas.openxmlformats.org/officeDocument/2006/relationships/hyperlink" Target="http://mek.oszk.hu/html/vgi/kereses/kereses.phtml?id=945&amp;table=dc_subject&amp;mezo=keyword&amp;mezoertek1=J%F3kai+M%F3r+%281825-1904%29&amp;mezoertek2=&apos;&apos;" TargetMode="External"/><Relationship Id="rId8" Type="http://schemas.openxmlformats.org/officeDocument/2006/relationships/hyperlink" Target="http://mek.oszk.hu/00900/00945/" TargetMode="External"/><Relationship Id="rId9" Type="http://schemas.openxmlformats.org/officeDocument/2006/relationships/hyperlink" Target="http://mek.oszk.hu/00900/00945/html/" TargetMode="External"/><Relationship Id="rId10" Type="http://schemas.openxmlformats.org/officeDocument/2006/relationships/hyperlink" Target="http://mek.oszk.hu/00900/00945/" TargetMode="External"/><Relationship Id="rId11" Type="http://schemas.openxmlformats.org/officeDocument/2006/relationships/hyperlink" Target="http://mek.oszk.hu/00900/00945/" TargetMode="External"/><Relationship Id="rId12" Type="http://schemas.openxmlformats.org/officeDocument/2006/relationships/hyperlink" Target="http://mek.oszk.hu/00900/00945/" TargetMode="External"/><Relationship Id="rId13" Type="http://schemas.openxmlformats.org/officeDocument/2006/relationships/hyperlink" Target="http://mek.oszk.hu/00900/00945/" TargetMode="External"/><Relationship Id="rId14" Type="http://schemas.openxmlformats.org/officeDocument/2006/relationships/hyperlink" Target="http://mek.oszk.hu/00900/00945/" TargetMode="External"/><Relationship Id="rId15" Type="http://schemas.openxmlformats.org/officeDocument/2006/relationships/hyperlink" Target="http://mek.oszk.hu/00900/00945/" TargetMode="External"/><Relationship Id="rId16" Type="http://schemas.openxmlformats.org/officeDocument/2006/relationships/hyperlink" Target="http://mek.oszk.hu/00900/00945/html/" TargetMode="External"/><Relationship Id="rId17" Type="http://schemas.openxmlformats.org/officeDocument/2006/relationships/hyperlink" Target="http://mek.oszk.hu/00900/00945/00945.doc" TargetMode="External"/><Relationship Id="rId18" Type="http://schemas.openxmlformats.org/officeDocument/2006/relationships/hyperlink" Target="http://mek.oszk.hu/00900/00945/00945.doc" TargetMode="External"/><Relationship Id="rId19" Type="http://schemas.openxmlformats.org/officeDocument/2006/relationships/hyperlink" Target="http://mek.oszk.hu/00900/00945/00945.rtf" TargetMode="External"/><Relationship Id="rId20" Type="http://schemas.openxmlformats.org/officeDocument/2006/relationships/hyperlink" Target="http://mek.oszk.hu/00900/00945/00945.rtf" TargetMode="External"/><Relationship Id="rId21" Type="http://schemas.openxmlformats.org/officeDocument/2006/relationships/hyperlink" Target="http://mek.oszk.hu/00900/00945/00945.rtf" TargetMode="External"/><Relationship Id="rId22" Type="http://schemas.openxmlformats.org/officeDocument/2006/relationships/hyperlink" Target="http://mek.oszk.hu/00900/00945/00945.pdf" TargetMode="External"/><Relationship Id="rId23" Type="http://schemas.openxmlformats.org/officeDocument/2006/relationships/hyperlink" Target="http://mek.oszk.hu/00900/00945/00945.pdf" TargetMode="External"/><Relationship Id="rId24" Type="http://schemas.openxmlformats.org/officeDocument/2006/relationships/hyperlink" Target="http://mek.oszk.hu/00900/00945/00945.pdf" TargetMode="External"/><Relationship Id="rId25" Type="http://schemas.openxmlformats.org/officeDocument/2006/relationships/hyperlink" Target="http://mek.oszk.hu/00900/00945/00945.lit" TargetMode="External"/><Relationship Id="rId26" Type="http://schemas.openxmlformats.org/officeDocument/2006/relationships/hyperlink" Target="http://mek.oszk.hu/00900/00945/00945.lit" TargetMode="External"/><Relationship Id="rId27" Type="http://schemas.openxmlformats.org/officeDocument/2006/relationships/hyperlink" Target="http://mek.oszk.hu/00900/00945/00945.lit" TargetMode="External"/><Relationship Id="rId28" Type="http://schemas.openxmlformats.org/officeDocument/2006/relationships/hyperlink" Target="http://mek.oszk.hu/00900/00945/" TargetMode="External"/><Relationship Id="rId29" Type="http://schemas.openxmlformats.org/officeDocument/2006/relationships/hyperlink" Target="http://mek.oszk.hu/00900/00945/" TargetMode="External"/><Relationship Id="rId30" Type="http://schemas.openxmlformats.org/officeDocument/2006/relationships/hyperlink" Target="http://mek.oszk.hu/katalog/" TargetMode="External"/><Relationship Id="rId31" Type="http://schemas.openxmlformats.org/officeDocument/2006/relationships/hyperlink" Target="http://mek.oszk.hu/00900/00945/" TargetMode="External"/><Relationship Id="rId32" Type="http://schemas.openxmlformats.org/officeDocument/2006/relationships/hyperlink" Target="http://mek.oszk.hu/00900/00945/" TargetMode="External"/><Relationship Id="rId33" Type="http://schemas.openxmlformats.org/officeDocument/2006/relationships/hyperlink" Target="http://mek.oszk.hu/00900/00945/00945html.zip" TargetMode="External"/><Relationship Id="rId34" Type="http://schemas.openxmlformats.org/officeDocument/2006/relationships/hyperlink" Target="http://mek.oszk.hu/00900/00945/00945html.zip" TargetMode="External"/><Relationship Id="rId35" Type="http://schemas.openxmlformats.org/officeDocument/2006/relationships/hyperlink" Target="http://mek.oszk.hu/00900/00945/00945doc.zip" TargetMode="External"/><Relationship Id="rId36" Type="http://schemas.openxmlformats.org/officeDocument/2006/relationships/hyperlink" Target="http://mek.oszk.hu/00900/00945/00945doc.zip" TargetMode="External"/><Relationship Id="rId37" Type="http://schemas.openxmlformats.org/officeDocument/2006/relationships/hyperlink" Target="http://mek.oszk.hu/00900/00945/00945doc.zip" TargetMode="External"/><Relationship Id="rId38" Type="http://schemas.openxmlformats.org/officeDocument/2006/relationships/hyperlink" Target="http://mek.oszk.hu/00900/00945/00945rtf.zip" TargetMode="External"/><Relationship Id="rId39" Type="http://schemas.openxmlformats.org/officeDocument/2006/relationships/hyperlink" Target="http://mek.oszk.hu/00900/00945/00945rtf.zip" TargetMode="External"/><Relationship Id="rId40" Type="http://schemas.openxmlformats.org/officeDocument/2006/relationships/hyperlink" Target="http://mek.oszk.hu/00900/00945/00945rtf.zip" TargetMode="External"/><Relationship Id="rId41" Type="http://schemas.openxmlformats.org/officeDocument/2006/relationships/hyperlink" Target="http://mek.oszk.hu/00900/00945/00945pdf.zip" TargetMode="External"/><Relationship Id="rId42" Type="http://schemas.openxmlformats.org/officeDocument/2006/relationships/hyperlink" Target="http://mek.oszk.hu/00900/00945/00945pdf.zip" TargetMode="External"/><Relationship Id="rId43" Type="http://schemas.openxmlformats.org/officeDocument/2006/relationships/hyperlink" Target="http://mek.oszk.hu/00900/00945/00945pdf.zip" TargetMode="External"/><Relationship Id="rId44" Type="http://schemas.openxmlformats.org/officeDocument/2006/relationships/hyperlink" Target="http://mek.oszk.hu/00900/00945/" TargetMode="External"/><Relationship Id="rId45" Type="http://schemas.openxmlformats.org/officeDocument/2006/relationships/hyperlink" Target="http://mek.oszk.hu/00900/00945/" TargetMode="External"/><Relationship Id="rId46" Type="http://schemas.openxmlformats.org/officeDocument/2006/relationships/hyperlink" Target="http://mek.oszk.hu/html/vgi/kapcsolodo.php3?id=00945&amp;szerzok=Miksz%E1th+K%E1lm%E1n&amp;cim=J%F3kai+M%F3r+%E9lete+%E9s+kora" TargetMode="External"/><Relationship Id="rId47" Type="http://schemas.openxmlformats.org/officeDocument/2006/relationships/hyperlink" Target="http://mek.oszk.hu/html/vgi/konyvkereso.php3?id=00945&amp;szerzok=Miksz%E1th+K%E1lm%E1n&amp;cim=J%F3kai+M%F3r+%E9lete+%E9s+kora" TargetMode="External"/><Relationship Id="rId48" Type="http://schemas.openxmlformats.org/officeDocument/2006/relationships/hyperlink" Target="mailto:info@mek.oszk.hu,arcadat@axelero.hu" TargetMode="External"/><Relationship Id="rId49" Type="http://schemas.openxmlformats.org/officeDocument/2006/relationships/hyperlink" Target="http://mek.oszk.hu/00900/00945/" TargetMode="External"/><Relationship Id="rId50" Type="http://schemas.openxmlformats.org/officeDocument/2006/relationships/hyperlink" Target="http://www.arcanum.hu/kiadvanyok/irodalom/mikszath_kalman_osszes_muvei.html" TargetMode="External"/><Relationship Id="rId5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oki.hu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gitalizált oktatási anyagok magyar nyelvből és irodalomból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3715920"/>
            <a:ext cx="40132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Hajdicsné Dr. Varga Katalin PhD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Kaposvári Egyetem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Magyar Nyelvészeti  és Irodalmi Tanszék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52728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B1E-5FF9-49D5-9DC1-BC83E6E60C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 és találato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digitalizált oktatás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b. 643 találat – 130 találatot mutatott m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asználható találatok száma: </a:t>
            </a:r>
            <a:r>
              <a:rPr b="0" lang="hu-HU" sz="2800" spc="-1" strike="noStrike">
                <a:solidFill>
                  <a:srgbClr val="cc99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21. Gila Krisztina informatikataná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a szeretnél egy jó órát/projektet – IKT eszközök a közoktatásban” (pályázat – Neumann Számítógép-tudományi Társasá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1EF-BC83-44B8-AABD-79C87D6DB8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2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6. Világ – Nyel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anyelvi beszédkultúra a nyelvi előkészítő tanfolyamon – tanterv (36 óra) és tananyagok CD-n (2004. március 19. OKM honlapjá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ak ismertető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gény alapján a tananyagokat teljes terjedelemben elküldjük az érdeklődő középiskoláknak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VAJON HÁNY ISKOLA KÉRHET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BBD-B69D-4E3E-822E-F673F2D108F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3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6. ARCANUM CD-k (megrendelhető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y Endre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rodalmi arcképcsarn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ókai Mór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magyar irodalom történe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kszáth Kálmán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émeth László összes műv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stá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589-7A8F-48F9-A9CA-4A72EDC67E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4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digitalizált oktatási anyagok magyar nyelvből és irodalomból”   kb. 9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álható találatok száma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nyelv és irodalom CD-k” kb. 10600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álható találatok száma 1-100-ban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13. találat: Informatika-Számítástechnika Tanárok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gyesülete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) Multimédia-kalauz; Magyar nyelv és irodalom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1-8. évfolyamn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b) Tantárgyi feladatbankok: Nyelvtan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feladatlapok 5-8. osztá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DCF-6B1E-4078-A0F7-9D911ED428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5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26. találat: Neumann-ház (Neumann János Digitális Könyvtár és Multimédia Központ Kh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CD-ROM diszkográfia – benne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irodalom és nyelvtan 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c99ff"/>
                </a:solidFill>
                <a:latin typeface="Arial"/>
              </a:rPr>
              <a:t>Rövid ismertetés olvasható. Megrendelhető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özépiskolai digitális tananyagok magyar nyelvből és irodalomból” 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b. 320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Találatok száma 1-100-ból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2. találat: Világ – Nyelv </a:t>
            </a:r>
            <a:r>
              <a:rPr b="0" lang="hu-HU" sz="2400" spc="-1" strike="noStrike">
                <a:solidFill>
                  <a:srgbClr val="003366"/>
                </a:solidFill>
                <a:latin typeface="Arial Narrow"/>
              </a:rPr>
              <a:t>← ugyanaz, mint az első keresésné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E41-E785-4E3C-B5DF-1DD79BF692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ulcsszavas keresések, találatok 6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nyelvtan és irodalom adatbázisok”  kb. 84000 talál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álható találatok száma 1-100-ból: </a:t>
            </a:r>
            <a:r>
              <a:rPr b="0" lang="hu-HU" sz="2400" spc="-1" strike="noStrike">
                <a:solidFill>
                  <a:srgbClr val="cc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1. ugyanaz, mint a 3. keresésnél: Informatika-Számítástechnika Tanárok Egyesülete (Multimédia-kalauz; Feladatbanko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2. ugyanaz, mint az 1. keresésnél: ARCAN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6. Kempelen Farkas Hallgatói Információs Központ Digitális Tankönyvtára: a helyszínen használható anyagokat sorolja f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15. Sulinet Digitális Adatbázis - Közismereti tananyagok – Magyar nyelv és irodal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- LETÖLTHETŐ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- TÖBB AUDIOVIZUÁLIS (szöveg, kép, ha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429-1F41-49C6-A41A-4795F36508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Általam ismert honlapokon talált anyago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yartanárként mivel is kezdődhetne a l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cc99ff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09B-FD5B-4E6B-90D3-2068C03F7BB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www.magyartanarok.freeweb.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WEB-HELYEK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IRODAL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gitális Irodalmi Akadémia - 61 kortárs magyar író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ûvei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Magyar Elektronikus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Könyvtár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Litera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– irodalmi portál (mai magyar irodalom)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Alkotói portrék a magyar irodalomból (Sulinet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A régi magyar vers repertóriuma, EL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Biblia - a 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Károli-Biblia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 teljes szövege, keresőkke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DOKK, Irodalmi Kikötő – mai magyar költész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Énekelt versek – Kosbor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Együttes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Hálózati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 kritikai kiadások, ELTE (Balassi, Rimay, Zrínyi, József Attila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mûvei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,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stb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…)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KIA - Kortárs Irodalmi Adattár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Kontextus.hu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 – Kortárs Irodalmi Adattár és Portál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Kortárs magyar irodalom (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Sztaki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KÖNYVAJÁNLÓ (Drámajáték, retorika, költészet 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Mai magyar irodalom az interneten (Debreceni Irodalmi Lapok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A Nyugat (a folyóirat számainak teljes szövege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Pánsíp – Balla D. Károly iratfolyama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Vajdasági magyar irodalmi oktató CD internetes változa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NYELVÉSZ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Magyar Történeti Szövegtár (MTA Nyelvtudományi Intézet)</a:t>
            </a: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u-HU" sz="1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A Magyar Nyelvtudományi Tanszék kiadványai (Debreceni Egyetem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Édes Anyanyelvünk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Magyar Nyelv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6"/>
              </a:rPr>
              <a:t>Magyar Nyelvőr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7"/>
              </a:rPr>
              <a:t>Magyar szleng (Debreceni Egyetem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8"/>
              </a:rPr>
              <a:t>Nyelvtudomány a MEK-en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9"/>
              </a:rPr>
              <a:t>Számítógépes Nyelvtörténeti Adattár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40"/>
              </a:rPr>
              <a:t>Szótárak a MEK-en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C0E-A66C-4C08-89BC-2C2A6DED18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www.magyartanarok.freeweb.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MŰVÉSZ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 világ szépművészeti múzeumai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Képzőművészet Magyarországon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eb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Gallery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 of Ar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OKTATÁ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Cikkek a magyartanításró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Oktatás - a KFKI ajánlója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Pedagógus állásbörze, szakmai olda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FOLYÓIRATO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Alföld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Élet és Irodalom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Iskolakultúra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Lig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Nyugat (a folyóirat számainak teljes szövege, keresőkkel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INTÉZMÉNYE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Budapesti Városházi Lapok (A Főváros web-lapja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Fővárosi Pedagógiai Intéz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Jelenkor Kiadó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Kossuth Klub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Könyvtárostanárok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 Egyesüle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OKI – Országos Közoktatási Intéz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Oktatási Minisztérium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Országos Pedagógiai Könyvtár és Múzeum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Osztályfőnökök Országos Szakmai Egyesüle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Pont Kiadó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Sulinet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Történelemtanárok Egylete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66"/>
                </a:solidFill>
                <a:latin typeface="Arial"/>
              </a:rPr>
              <a:t>LINKGYŰJTEMÉNYE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Irodalmi, nyelvészeti, művészeti stb. linkek gyűjteménye (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wahoo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)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Kulturális folyóiratok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Magyar Kulturális Honlap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Rendkívül gazdag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linkgyûjtemény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 mindenféle témában (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lap.hu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36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218-8689-4E1D-BBA1-F28AB9298B7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vábbi „honlapjaim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sulinet.hu/Kossuth/nyelvt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Interaktív magyar nyelvta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nem található (sajnos, már több hónapj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agyarirodalom.lap.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övegek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Képek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Hangzó anyag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emir.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lektronikus magyar irodalom – online szöveg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40 mai alkot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07C-AE53-4A7E-BF05-196E9FE550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ézményi felszereltség – Internet-kapcsolat, multimédiás gép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Munkaállomások szá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2003</a:t>
            </a:r>
            <a:r>
              <a:rPr b="0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hu-HU" sz="1800" spc="-1" strike="noStrike" u="sng">
                <a:solidFill>
                  <a:srgbClr val="003366"/>
                </a:solidFill>
                <a:uFillTx/>
                <a:latin typeface="Arial"/>
              </a:rPr>
              <a:t>             200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122 566  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          148 06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1 gépre jutó tanulók száma a középiskolában: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6,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Európai Unió ajánlása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10-12 tanuló/gép</a:t>
            </a:r>
            <a:r>
              <a:rPr b="0" lang="hu-HU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500" spc="-1" strike="noStrike">
                <a:solidFill>
                  <a:srgbClr val="003366"/>
                </a:solidFill>
                <a:latin typeface="Arial"/>
              </a:rPr>
              <a:t>(Apertus Közalapítvány Nemzeti Fejlesztési Terv Iroda)</a:t>
            </a:r>
            <a:endParaRPr b="0" lang="en-US" sz="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7480" y="2664000"/>
            <a:ext cx="2990880" cy="35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9E0-EB8F-4CF4-877A-798284B709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vábbi „honlapjaim” 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kiad.hu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Digitális Klasszika – A 18-19. sz. magyar irod.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datbázisa (Szegedi Tudományegyete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irodalmiakademia.h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kortárs magyar irodalom alkotóinak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elektronikus szövegei, életrajzzal, bibliográfiával,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zakirodalom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ttp://e-konyvtar.lap.hu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nyelv és irodalom; e-könyv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5BC-FB18-42EC-93A1-101846471C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vábbi honlapjaim 3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www.neumann-haz.hu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Szövegtá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ritikai kiadások; Népszerű kiadások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agyar klasszikusok költeményei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ortársaink művei; Szakirodalom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XIX. századi magyar drámák történetébő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épek a magyar irodalombó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ép- és diafilmgyűjtemé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Balassi Bálint Virtuális Kiállí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Jeles napok oktatási segédanya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16C-1760-4C60-985C-1E5EE47C94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jánlás – beszerezhető anyag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Bondor Erika összeállításából: A hazai digitális taneszközök annotált oktatási ajánlása a 14-18 éves korosztály számár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Irodalom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1. Kapcsolatok: Kommunikációs nevelé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7 CD nyomtatott füzett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2. Világirodalom az ókortól napjainkig 10-16 éveseknek CD-R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Video- és hangtár; fogalmak; alkotások; elemzések; filmrészletek színház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előadásokról; tesztban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3. Irodalom CD-R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kronologikus irodalomtörténet; művészettörténeti korszakok; 50 íróportré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űelemzések; versek; színészi tolmácsolás audio-, illetve videofelvételeken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fogalomtá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4. Verstár – a magyar líra klasszikusa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49 költő verse és versfordítása; 5 órányi hanganyag jeles versmondók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olmácsolásáb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5. Madách: Az ember tragédiája 20 nyelven (nincs kereskedelmi forgalomban de másoln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ingyen lehet – Magyar Irodalmi Társaság 1999. Frankfurti Könyvvásárra készült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A54-523D-4770-AEA6-F4900F221C0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zerezhető anyagok 2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yelvt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1. Interaktív magyar nyelvtan. A magyar nyelv és helyesírás szabálya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önálló gyakorlási lehetőség: 400 nyelvtani feladatlap; 2000 lediktált gyakorló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ondat (tollbamondás); 56 példaszöveg helyesírási hibáinak javítása és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megoldása; teljesítményértékelé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2. Pannon enciklopéd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szöveg- és képanya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3. Anyanyelvi könyvespolc: Idegen szavak és kifejezések kéziszótára; Helyesírás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kéziszótár; 14 ezer szavas értelmező szótár; A magyar helyesírás szabályai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Szinonima szó- és kifejezésgyűjtemény; Rontott szavak gyűjtemény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4. Nyelvészet és társadal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yelvek, rétegnyelvek kialakulása; Szleng; Kommunikációs típusok;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Nyelvészeti 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szótá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5. Magyar nyelvtan 1., 7-16 évesekne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képességfejlesztő CD-ROM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További válogatási lehetőség: </a:t>
            </a:r>
            <a:r>
              <a:rPr b="0" lang="hu-HU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oki.hu/cikk.php?kod=informatika-Bondor-Hazai.html</a:t>
            </a:r>
            <a:r>
              <a:rPr b="0" lang="hu-HU" sz="1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0BB-BBCF-40DD-93A6-734529A763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66"/>
                </a:solidFill>
                <a:latin typeface="Arial"/>
              </a:rPr>
              <a:t>Egy konkrét digitalizált tananyag: Barangolások Jókai Mórral (www.sulinet.hu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óra tárgya: Jókai Mór alkotásai, pályaké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ítási módszer: - frontális osztálymunka (előadás) és foglalkoztató óra (csoportmun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zközigény: PC + projektor, internetes elér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ítás helye a tanmenetben: 11. évfolyam: Jókai Mór pályaképe és regényei 12. évfolyam: Jókai Mór – tételó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anóra menete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1. óravázl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2. óravázl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3. óravázl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F79-C949-476B-901C-0009F0F8832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Óravázlatok 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Bevezető ó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Elemzés tárgya: Jókai Mór élete és pályaké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egédeszközök az elemzéshez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DT videoanyagai (projek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SDT írásos anyagai (projek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69F-657B-48C2-8ECC-948EF32554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Óravázl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z óra mene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épések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D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Id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per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Jókai helye a magy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rodalomba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Jókai életrajz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Jókai tanulóéve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Jókai és Petőf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Jókai és a forradalom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deo 1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Jókai a forradalom utá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deo 1., 2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A regényíró Jóka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CD1-93EA-4EFE-B80F-D8667968BF8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lytatá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DT tartalom: SDT Irodalom / Hungaria Litterata – Műemlék (SD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DT Tartalomjegyzék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Hungaria Litterata – Műemlék tananyag megfelelő elemei és rövid leírás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3366"/>
                </a:solidFill>
                <a:uFillTx/>
                <a:latin typeface="Arial"/>
              </a:rPr>
              <a:t>TARTAL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Hasznos link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FDC-C675-4B2D-871D-DCB98AF4E5B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DT TARTALOMJEGYZÉ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ókai és a forradalom – video 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 gondolatai a márciusi forradalomról és a szabadságharc bukásáró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 szerepe a forradalomban, házassága, sikerei és bujdosá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ardonára bujdosó Jóka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: Az arany ember – video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omárom, a kereskedővá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kicsi „Bábel”, a gyermekkori élmények hatása a regény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ókai világa, írói módsz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gy gazdag komáromi polgár legendá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Senki szige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F11-1850-427F-BEA5-00A02171EB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sznos linke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 Mór élete és művész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 Mór a Wikipédiá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 Mór: Az arany ember (teljes regé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Mikszáth Kálmán: Jókai Mór élete és ko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3366"/>
                </a:solidFill>
                <a:uFillTx/>
                <a:latin typeface="Arial"/>
              </a:rPr>
              <a:t>Jókai-emlékhelyek Magyarorszá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9EB-D3E3-401E-B8EC-0B4499FEF52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litá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ak 40 000 gép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kalmas az új felhasználói programok futtatásá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delkezik Internet-kapcsolat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kalmas multimédiás fájlok futtatásá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PEDI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ff3300"/>
                </a:solidFill>
                <a:latin typeface="Arial Narrow"/>
              </a:rPr>
              <a:t>↓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FC5-08F7-42A4-B328-2E690CC17BC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ókai emlékhelyek Magyarország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ww.vendegvaro.hu/50-16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ókai arcképe, rövid életpálya, főbb műv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apcsolódó objektum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ókai-villa, Balatonfüred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ókai Múzeum, Balatonfüred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Jókai Mór szobra, Balatonfü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DDB-2386-4B84-825D-AD39A4F6D4A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kszáth Kálmán: Jókai Mór élete és kor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ttp://mek.oszk.hu/00900/00945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ikszáth Kálmán </a:t>
            </a:r>
            <a:br>
              <a:rPr sz="900"/>
            </a:b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ókai Mór élete és kora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Szépirodalom, népköltészet/Klasszikus magyar irodalom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900"/>
            </a:b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(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magyar irodalom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,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Jókai Mór (1825-1904)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)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SZERZŐI JOGOK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u-HU" sz="9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"Kétség se fér hozzá, hogy egy csodás, jó és ártatlan ember volt, finom lelkű, tele gyöngédséggel és érzékenységgel - az előbbit sokszor mutatta meg és szerette ezt csattanós jelenetekben tenni, mintegy a külső hatásra is számítva, de az utóbbit gondosan rejtegette."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FÜLSZÖVEG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KATALÓGUS-_x000b_CÉDULA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MEGTEKINTHETŐ VERZIÓK: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 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HTML_x000b_*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Word_x000b_840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RT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_x000b_1060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PD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_x000b_1571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LIT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_x000b_603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JPEG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OLVASÓI_x000b_VÉLEMÉNYEK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KERESÉS_x000b_A MEK-BEN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     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ZIP-PEL CSOMAGOLT VERZIÓK: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 </a:t>
            </a: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ML_x000b_363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Word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6"/>
              </a:rPr>
              <a:t>_x000b_371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7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8"/>
              </a:rPr>
              <a:t>RT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39"/>
              </a:rPr>
              <a:t>_x000b_387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0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1"/>
              </a:rPr>
              <a:t>PDF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2"/>
              </a:rPr>
              <a:t>_x000b_1495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3"/>
              </a:rPr>
              <a:t>kbyte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4"/>
              </a:rPr>
              <a:t>XML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5"/>
              </a:rPr>
              <a:t>Egyéb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6"/>
              </a:rPr>
              <a:t>KAPCSOLÓDÓ_x000b_OLDALAK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7"/>
              </a:rPr>
              <a:t>KÖNYVKERESÉS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8"/>
              </a:rPr>
              <a:t>INFORMÁCIÓ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49"/>
              </a:rPr>
              <a:t>2003-07-23 </a:t>
            </a:r>
            <a:r>
              <a:rPr b="0" lang="hu-HU" sz="900" spc="-1" strike="noStrike" u="sng">
                <a:solidFill>
                  <a:srgbClr val="003366"/>
                </a:solidFill>
                <a:uFillTx/>
                <a:latin typeface="Arial"/>
                <a:hlinkClick r:id="rId50"/>
              </a:rPr>
              <a:t>FORRÁS</a:t>
            </a: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SZÁMLÁLÓ: 20571http://mek.oszk.hu/00900/00945/#http://mek.oszk.hu/00900/00945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URN: http://nbn.urn.hu/N2L?urn:nbn:hu-2944</a:t>
            </a:r>
            <a:br>
              <a:rPr sz="900"/>
            </a:br>
            <a:r>
              <a:rPr b="1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315-E2C1-44E3-BC3E-8CBDF58B825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yanyelvi beszédkultúr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gitális tananya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ww.om.hu/letolt/retorika/index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észítette: a budapesti Toldy Ferenc Gimnázium magyar munkaközössé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 digitális tananyag tartalomjegyzék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Általános bevezet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nter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nanya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szédképzés, kommunikációs ismeretek, viselkedéskultú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vezetés a szövegértés és -alkotás folyamatáh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ilisztik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sp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atbázis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gítsé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EC3-6780-4996-AD40-E977C2C0FE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yanyelvi beszédkultú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zédképzés, kommunikációs ismeretek, viselkedéskultú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zédtech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ladat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ejtés – 2. feladat: Olvassátok soronként a verset, figyelve a tiszta szóvég-ejtésre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YÍL - rá kattintva olvasható az egész v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945-20BB-4622-9174-44AC758810E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ananyag hanganyag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Pl. Mensáros László: Radnóti Miklós: Hetedik eclo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zíndarabrészletek – Bulla Elma, Sulyok Mária: Örkény István: Macskajáté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íres emberek beszéde: Interjúrészlet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Kertész Imré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Szent-Györgyi Albertt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Gábor Déness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739-4470-4F81-83F4-18C39E59117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épgyűjtemé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Fotók diákokról (arcjáték+gesztus=kommunikáci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Portrék (festménye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Fotók ülő diákokró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Rajzok embercsoportokró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Hamlet – szereplőhál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66"/>
                </a:solidFill>
                <a:latin typeface="Arial"/>
              </a:rPr>
              <a:t>Commedia dell’arte maszk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2C0-7FF1-4127-A472-B2C0BF98E81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asztal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 magyar az interaktív megjelenítés szempontjábó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(z egyik) legnehezebben szemléltethető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tantá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jelenleg kevés az elkészített anyagok 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nimációtartal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- tovább kell gazdagíta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épanyag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filmrészlete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kreatív interaktív tesztanyagá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646-94A7-4E71-8782-E5301734FA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legyen a cé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zt akarom, hogy az énektanár muzsikáljon és komponáljon, az angoltanár írjon, a történelemtanár szeressen kastélyokban, régi helyeken kóborolni. Olyan embereket akarok, akik megértik, hogy a feladatuk az, hogy minél gazdagabbá tegyék az általuk tanított gyerekek tapasztalatát és szemléletét.”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ngol iskolaigazgató – Fehér Péter: Konstruktív pedagógiai kísérletek számítógéppel.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oki.hu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magyartanár fokozatosan igazodjon a változó világ követelményeihez a számítógéppel segített tanulás és az újszerű tanulási környezetek alkalmazásáv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átssza le” – alkalmazza az elkészített anyagok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lgozzon ki – tapasztalataira, ismereteire építve, a felhasznált anyagok segítségével, majd önállóan – saját anyagok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8D4-8357-4619-9CDC-EA5DE3F841D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18160" y="1118520"/>
            <a:ext cx="721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öszönöm a figyelme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C7F-55A8-4602-8D96-CA73DC946F14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KT és hozzáadott érték a tanulási folyamatb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diákok motivációjának növekedé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z iskolán belüli, iskolák közötti, az iskola és általában a társadalom közötti kapcsolat javulá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kapcsolódás egy azonos érdekeltségű világhálózatba és szakértői rendszer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FED-5B16-4A4A-9995-4BA95C3A32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zámítógép-használat előnyei az oktatás sorá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zali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s motivációs szi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diovizuális eszkö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kszínű, izgal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akcióra alkal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talmas mennyiségű adattárolásra ké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yorsan aktivizálható az adathalm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ktatóprogramok (otthoni ismétlésre, gyakorlásra i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B7E-9D3C-490B-9DAD-28901D4100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zámítógép-használat előnyei az oktatás során 2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lezés, szimulál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s szellemi tevékenysé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ntos, gyors visszajelz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gyelemfejlesztő hat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átszva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ANÍ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Önállóság fokozá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gyüttműködési készség fejleszté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yors és pontos reagálás iránti igény kialakulá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A5F-35B6-43E5-99F2-594FEF82B4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gitalizált oktatási anyagok készítésének, használatának előnye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gkönnyíti a tanárok munkáj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zdagítja a tananyag választék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zdaságosabbá teszi a tananyagok előállítását és a tanulókhoz történő eljuttatás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öveli a felzárkóztatás lehetősége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eli az oktatási segédanyagok színvonalá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hetővé teszi  új tanítási módszerek, eszközök kifejlesztésé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D38-8E8F-49E6-8C1A-DBAA17376F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kutatásról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Célja: digitális oktatási anyagok gyűjtése magyar nyelvből és irodalomból az Interne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Időpontja: 2007. január 16. 10.00-13.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Módszere: google kereső, kulcsszavas keresés (a kezdők tapasztalatlanságát imitálv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Tapasztalat: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TÜRELEM</a:t>
            </a:r>
            <a:r>
              <a:rPr b="0" lang="hu-HU" sz="2000" spc="-1" strike="noStrike">
                <a:solidFill>
                  <a:srgbClr val="003366"/>
                </a:solidFill>
                <a:latin typeface="Arial"/>
              </a:rPr>
              <a:t> a kiadott találatok áttekintéséhe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62400" y="2708280"/>
            <a:ext cx="31035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401-A409-468A-8643-614B85B5F2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keresőbe beírt kulcsszavak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gitalizált oktatás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gitalizált oktatási anyagok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yar nyelv és irodalom CD-k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özépiskolai digitális tananyagok magyar nyelvből és irodalombó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elvtan és irodalom adatbázisok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C68-4E1F-4960-915B-AEB4EE492C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3:28:34Z</dcterms:created>
  <dc:creator>Hajdics Győző</dc:creator>
  <dc:description/>
  <dc:language>en-US</dc:language>
  <cp:lastModifiedBy>varga.katalin</cp:lastModifiedBy>
  <dcterms:modified xsi:type="dcterms:W3CDTF">2009-11-05T06:59:51Z</dcterms:modified>
  <cp:revision>6</cp:revision>
  <dc:subject/>
  <dc:title>Digitalizált oktatási anyagok magyar nyelvből és irodalomból</dc:title>
</cp:coreProperties>
</file>