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2E02-B77D-4B4D-9693-B69EFAFE9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9BAB-2F4B-4379-8495-85A37EBF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E3EE-8897-4BC1-A399-A0F22B051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8F33-757E-44FD-9F25-89EB6FB83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DCA2-CEAA-4B81-BE8E-65A5C0F2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8F3E-5F94-4A57-A2F3-5637F368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6220-34F2-404B-9043-7D0C498E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6E29-B91A-4F88-A66E-7C2115A1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1557-7501-449A-A544-55498333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31EE-FD6B-46FC-83BC-B926FE88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8CF8-8468-4099-947F-162253D1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6842-7401-4A05-BA46-D93774CD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1F9A-5922-4A3C-A7E2-FB179DC5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3413-B194-4394-AD08-FE7AAEAA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73D1-A278-4C0E-87A7-7F00AAD5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A6BB-B7E0-4374-AF7B-13DF13F6D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0863-E067-476E-83E7-7644A7C7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E946-68BF-4660-BFD5-B8C7E738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57BE-C13C-4962-875C-613E8798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0F0C-AFF9-4807-B362-13D56A18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FF22-2DCB-4F6B-8CE2-F51C4885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3568-B70A-4D67-8A9B-00676878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3267-5EF9-4054-A09B-83B9C8CE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62DF-8C17-4520-B6AB-9A3AFD48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5245-3C57-4832-B37A-99BFF44818A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5090-A29B-4606-917B-3635DF61EBF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irodalmiakademia.hu/" TargetMode="External"/><Relationship Id="rId2" Type="http://schemas.openxmlformats.org/officeDocument/2006/relationships/hyperlink" Target="http://www.irodalmiakademia.hu/" TargetMode="External"/><Relationship Id="rId3" Type="http://schemas.openxmlformats.org/officeDocument/2006/relationships/hyperlink" Target="http://www.mek.iif.hu/porta/szint/human/szepirod/" TargetMode="External"/><Relationship Id="rId4" Type="http://schemas.openxmlformats.org/officeDocument/2006/relationships/hyperlink" Target="http://www.mek.iif.hu/porta/szint/human/szepirod/" TargetMode="External"/><Relationship Id="rId5" Type="http://schemas.openxmlformats.org/officeDocument/2006/relationships/hyperlink" Target="http://www.litera.hu/" TargetMode="External"/><Relationship Id="rId6" Type="http://schemas.openxmlformats.org/officeDocument/2006/relationships/hyperlink" Target="http://www.litera.hu/" TargetMode="External"/><Relationship Id="rId7" Type="http://schemas.openxmlformats.org/officeDocument/2006/relationships/hyperlink" Target="http://www.sulinet.hu/tananyag/97102/on/igyjo/index.htm" TargetMode="External"/><Relationship Id="rId8" Type="http://schemas.openxmlformats.org/officeDocument/2006/relationships/hyperlink" Target="http://magyar-irodalom.elte.hu/repertorium/" TargetMode="External"/><Relationship Id="rId9" Type="http://schemas.openxmlformats.org/officeDocument/2006/relationships/hyperlink" Target="http://mazsola.iit.uni-miskolc.hu/biblia/" TargetMode="External"/><Relationship Id="rId10" Type="http://schemas.openxmlformats.org/officeDocument/2006/relationships/hyperlink" Target="http://mazsola.iit.uni-miskolc.hu/biblia/" TargetMode="External"/><Relationship Id="rId11" Type="http://schemas.openxmlformats.org/officeDocument/2006/relationships/hyperlink" Target="http://mazsola.iit.uni-miskolc.hu/biblia/" TargetMode="External"/><Relationship Id="rId12" Type="http://schemas.openxmlformats.org/officeDocument/2006/relationships/hyperlink" Target="http://www.dokk.hu/versek/versek.php3" TargetMode="External"/><Relationship Id="rId13" Type="http://schemas.openxmlformats.org/officeDocument/2006/relationships/hyperlink" Target="http://kosbor.musicpage.com/" TargetMode="External"/><Relationship Id="rId14" Type="http://schemas.openxmlformats.org/officeDocument/2006/relationships/hyperlink" Target="http://kosbor.musicpage.com/" TargetMode="External"/><Relationship Id="rId15" Type="http://schemas.openxmlformats.org/officeDocument/2006/relationships/hyperlink" Target="http://magyar-irodalom.elte.hu/gepesk/index/" TargetMode="External"/><Relationship Id="rId16" Type="http://schemas.openxmlformats.org/officeDocument/2006/relationships/hyperlink" Target="http://magyar-irodalom.elte.hu/gepesk/index/" TargetMode="External"/><Relationship Id="rId17" Type="http://schemas.openxmlformats.org/officeDocument/2006/relationships/hyperlink" Target="http://magyar-irodalom.elte.hu/gepesk/index/" TargetMode="External"/><Relationship Id="rId18" Type="http://schemas.openxmlformats.org/officeDocument/2006/relationships/hyperlink" Target="http://magyar-irodalom.elte.hu/gepesk/index/" TargetMode="External"/><Relationship Id="rId19" Type="http://schemas.openxmlformats.org/officeDocument/2006/relationships/hyperlink" Target="http://magyar-irodalom.elte.hu/gepesk/index/" TargetMode="External"/><Relationship Id="rId20" Type="http://schemas.openxmlformats.org/officeDocument/2006/relationships/hyperlink" Target="http://magyar-irodalom.elte.hu/gepesk/index/" TargetMode="External"/><Relationship Id="rId21" Type="http://schemas.openxmlformats.org/officeDocument/2006/relationships/hyperlink" Target="http://www.kontextus.hu/kia/kia.php" TargetMode="External"/><Relationship Id="rId22" Type="http://schemas.openxmlformats.org/officeDocument/2006/relationships/hyperlink" Target="http://www.kontextus.hu/" TargetMode="External"/><Relationship Id="rId23" Type="http://schemas.openxmlformats.org/officeDocument/2006/relationships/hyperlink" Target="http://www.kontextus.hu/" TargetMode="External"/><Relationship Id="rId24" Type="http://schemas.openxmlformats.org/officeDocument/2006/relationships/hyperlink" Target="http://www.sztaki.hu/~blb/irodalom/" TargetMode="External"/><Relationship Id="rId25" Type="http://schemas.openxmlformats.org/officeDocument/2006/relationships/hyperlink" Target="http://www.sztaki.hu/~blb/irodalom/" TargetMode="External"/><Relationship Id="rId26" Type="http://schemas.openxmlformats.org/officeDocument/2006/relationships/hyperlink" Target="http://www.sztaki.hu/~blb/irodalom/" TargetMode="External"/><Relationship Id="rId27" Type="http://schemas.openxmlformats.org/officeDocument/2006/relationships/hyperlink" Target="http://www.freeweb.hu/magyartanarok/konyvajanlo.html" TargetMode="External"/><Relationship Id="rId28" Type="http://schemas.openxmlformats.org/officeDocument/2006/relationships/hyperlink" Target="http://gizi.dote.hu/~hajnal/hunlit.html" TargetMode="External"/><Relationship Id="rId29" Type="http://schemas.openxmlformats.org/officeDocument/2006/relationships/hyperlink" Target="http://www.mek.iif.hu/porta/szint/human/szepirod/magyar/nyugat" TargetMode="External"/><Relationship Id="rId30" Type="http://schemas.openxmlformats.org/officeDocument/2006/relationships/hyperlink" Target="http://www.hhrf.org/ungparty/pansip/" TargetMode="External"/><Relationship Id="rId31" Type="http://schemas.openxmlformats.org/officeDocument/2006/relationships/hyperlink" Target="http://www.palatabla.zenith.org.yu/" TargetMode="External"/><Relationship Id="rId32" Type="http://schemas.openxmlformats.org/officeDocument/2006/relationships/hyperlink" Target="http://www.nytud.hu/hhc/" TargetMode="External"/><Relationship Id="rId33" Type="http://schemas.openxmlformats.org/officeDocument/2006/relationships/hyperlink" Target="http://mnytud.arts.klte.hu/kiadvany.htm" TargetMode="External"/><Relationship Id="rId34" Type="http://schemas.openxmlformats.org/officeDocument/2006/relationships/hyperlink" Target="http://www.lib.jgytf.u-szeged.hu/edes_anyanyelvunk/" TargetMode="External"/><Relationship Id="rId35" Type="http://schemas.openxmlformats.org/officeDocument/2006/relationships/hyperlink" Target="http://www.c3.hu/~magyarnyelv/" TargetMode="External"/><Relationship Id="rId36" Type="http://schemas.openxmlformats.org/officeDocument/2006/relationships/hyperlink" Target="http://www.c3.hu/~nyelvor/nyr.htm" TargetMode="External"/><Relationship Id="rId37" Type="http://schemas.openxmlformats.org/officeDocument/2006/relationships/hyperlink" Target="http://mnytud.arts.klte.hu/szleng/hu_slang.htm" TargetMode="External"/><Relationship Id="rId38" Type="http://schemas.openxmlformats.org/officeDocument/2006/relationships/hyperlink" Target="http://www.mek.iif.hu/porta/szint/tarsad/nyelvtud/" TargetMode="External"/><Relationship Id="rId39" Type="http://schemas.openxmlformats.org/officeDocument/2006/relationships/hyperlink" Target="http://mnytud.arts.klte.hu/sznyta.htm" TargetMode="External"/><Relationship Id="rId40" Type="http://schemas.openxmlformats.org/officeDocument/2006/relationships/hyperlink" Target="http://www.mek.iif.hu/porta/szint/egyeb/szotar/" TargetMode="External"/><Relationship Id="rId4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xs4all.nl/~androom/museums.htm" TargetMode="External"/><Relationship Id="rId2" Type="http://schemas.openxmlformats.org/officeDocument/2006/relationships/hyperlink" Target="http://www.kfki.hu/keptar/" TargetMode="External"/><Relationship Id="rId3" Type="http://schemas.openxmlformats.org/officeDocument/2006/relationships/hyperlink" Target="http://www.kfki.hu/~arthp/html/" TargetMode="External"/><Relationship Id="rId4" Type="http://schemas.openxmlformats.org/officeDocument/2006/relationships/hyperlink" Target="http://www.kfki.hu/~arthp/html/" TargetMode="External"/><Relationship Id="rId5" Type="http://schemas.openxmlformats.org/officeDocument/2006/relationships/hyperlink" Target="http://www.kfki.hu/~arthp/html/" TargetMode="External"/><Relationship Id="rId6" Type="http://schemas.openxmlformats.org/officeDocument/2006/relationships/hyperlink" Target="http://www.freeweb.hu/magyartanarok/cikk.html" TargetMode="External"/><Relationship Id="rId7" Type="http://schemas.openxmlformats.org/officeDocument/2006/relationships/hyperlink" Target="http://www.kfki.hu/(hu)/edu/okt.html" TargetMode="External"/><Relationship Id="rId8" Type="http://schemas.openxmlformats.org/officeDocument/2006/relationships/hyperlink" Target="http://www.gyermeksziget.hu/" TargetMode="External"/><Relationship Id="rId9" Type="http://schemas.openxmlformats.org/officeDocument/2006/relationships/hyperlink" Target="http://www.vkdebrecen.c3.hu/alfold/" TargetMode="External"/><Relationship Id="rId10" Type="http://schemas.openxmlformats.org/officeDocument/2006/relationships/hyperlink" Target="http://www.es.hu/" TargetMode="External"/><Relationship Id="rId11" Type="http://schemas.openxmlformats.org/officeDocument/2006/relationships/hyperlink" Target="http://www.iskolakultura.hu/" TargetMode="External"/><Relationship Id="rId12" Type="http://schemas.openxmlformats.org/officeDocument/2006/relationships/hyperlink" Target="http://liget.grafium.hu/" TargetMode="External"/><Relationship Id="rId13" Type="http://schemas.openxmlformats.org/officeDocument/2006/relationships/hyperlink" Target="http://www.mek.iif.hu/porta/szint/human/szepirod/magyar/nyugat" TargetMode="External"/><Relationship Id="rId14" Type="http://schemas.openxmlformats.org/officeDocument/2006/relationships/hyperlink" Target="http://www.fph.hu/bphome/" TargetMode="External"/><Relationship Id="rId15" Type="http://schemas.openxmlformats.org/officeDocument/2006/relationships/hyperlink" Target="http://www.fovpi.hu/" TargetMode="External"/><Relationship Id="rId16" Type="http://schemas.openxmlformats.org/officeDocument/2006/relationships/hyperlink" Target="http://jelenkor.com/" TargetMode="External"/><Relationship Id="rId17" Type="http://schemas.openxmlformats.org/officeDocument/2006/relationships/hyperlink" Target="http://www.kossuth-klub.hu/" TargetMode="External"/><Relationship Id="rId18" Type="http://schemas.openxmlformats.org/officeDocument/2006/relationships/hyperlink" Target="http://server.pedint-szfvar.sulinet.hu/kte/" TargetMode="External"/><Relationship Id="rId19" Type="http://schemas.openxmlformats.org/officeDocument/2006/relationships/hyperlink" Target="http://server.pedint-szfvar.sulinet.hu/kte/" TargetMode="External"/><Relationship Id="rId20" Type="http://schemas.openxmlformats.org/officeDocument/2006/relationships/hyperlink" Target="http://www.oki.hu/" TargetMode="External"/><Relationship Id="rId21" Type="http://schemas.openxmlformats.org/officeDocument/2006/relationships/hyperlink" Target="http://www.om.hu/" TargetMode="External"/><Relationship Id="rId22" Type="http://schemas.openxmlformats.org/officeDocument/2006/relationships/hyperlink" Target="http://www.opkm.hu/" TargetMode="External"/><Relationship Id="rId23" Type="http://schemas.openxmlformats.org/officeDocument/2006/relationships/hyperlink" Target="http://www.osztalyfonok.hu/" TargetMode="External"/><Relationship Id="rId24" Type="http://schemas.openxmlformats.org/officeDocument/2006/relationships/hyperlink" Target="http://www.pontkiado.hu/" TargetMode="External"/><Relationship Id="rId25" Type="http://schemas.openxmlformats.org/officeDocument/2006/relationships/hyperlink" Target="http://www.sulinet.hu/" TargetMode="External"/><Relationship Id="rId26" Type="http://schemas.openxmlformats.org/officeDocument/2006/relationships/hyperlink" Target="http://www.tte.hu/" TargetMode="External"/><Relationship Id="rId27" Type="http://schemas.openxmlformats.org/officeDocument/2006/relationships/hyperlink" Target="http://www.wahoo.hu/index/1898" TargetMode="External"/><Relationship Id="rId28" Type="http://schemas.openxmlformats.org/officeDocument/2006/relationships/hyperlink" Target="http://www.wahoo.hu/index/1898" TargetMode="External"/><Relationship Id="rId29" Type="http://schemas.openxmlformats.org/officeDocument/2006/relationships/hyperlink" Target="http://www.wahoo.hu/index/1898" TargetMode="External"/><Relationship Id="rId30" Type="http://schemas.openxmlformats.org/officeDocument/2006/relationships/hyperlink" Target="http://stand.euroweb.hu/parts.asp?k=Kult&#250;ra" TargetMode="External"/><Relationship Id="rId31" Type="http://schemas.openxmlformats.org/officeDocument/2006/relationships/hyperlink" Target="http://www.port.hu/kultura/" TargetMode="External"/><Relationship Id="rId32" Type="http://schemas.openxmlformats.org/officeDocument/2006/relationships/hyperlink" Target="http://lap.hu/" TargetMode="External"/><Relationship Id="rId33" Type="http://schemas.openxmlformats.org/officeDocument/2006/relationships/hyperlink" Target="http://lap.hu/" TargetMode="External"/><Relationship Id="rId34" Type="http://schemas.openxmlformats.org/officeDocument/2006/relationships/hyperlink" Target="http://lap.hu/" TargetMode="External"/><Relationship Id="rId35" Type="http://schemas.openxmlformats.org/officeDocument/2006/relationships/hyperlink" Target="http://lap.hu/" TargetMode="External"/><Relationship Id="rId36" Type="http://schemas.openxmlformats.org/officeDocument/2006/relationships/hyperlink" Target="http://lap.hu/" TargetMode="External"/><Relationship Id="rId3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magyarirodalom.lap.hu/" TargetMode="External"/><Relationship Id="rId2" Type="http://schemas.openxmlformats.org/officeDocument/2006/relationships/hyperlink" Target="http://magyarirodalom.lap.hu/" TargetMode="External"/><Relationship Id="rId3" Type="http://schemas.openxmlformats.org/officeDocument/2006/relationships/hyperlink" Target="http://www.emir.hu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oki.hu/cikk.php?kod=informatika-Bondor-Hazai.html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vendegvaro.hu/31-10225" TargetMode="External"/><Relationship Id="rId2" Type="http://schemas.openxmlformats.org/officeDocument/2006/relationships/hyperlink" Target="http://www.vendegvaro.hu/33-14" TargetMode="External"/><Relationship Id="rId3" Type="http://schemas.openxmlformats.org/officeDocument/2006/relationships/hyperlink" Target="http://www.vendegvaro.hu/32-991" TargetMode="External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jdics%20Gy&#337;z&#337;/Dokumentumok/Manye%20Si&#243;fok/szerzo" TargetMode="External"/><Relationship Id="rId2" Type="http://schemas.openxmlformats.org/officeDocument/2006/relationships/hyperlink" Target="http://mek.oszk.hu/00900/00945/html/" TargetMode="External"/><Relationship Id="rId3" Type="http://schemas.openxmlformats.org/officeDocument/2006/relationships/hyperlink" Target="http://mek.oszk.hu/html/vgi/kereses/kereses.phtml?id=945&amp;table=dc_subject&amp;mezo=topic&amp;mezoertek1=szepi&amp;mezoertek2=szepi030" TargetMode="External"/><Relationship Id="rId4" Type="http://schemas.openxmlformats.org/officeDocument/2006/relationships/hyperlink" Target="http://mek.oszk.hu/00900/00945/" TargetMode="External"/><Relationship Id="rId5" Type="http://schemas.openxmlformats.org/officeDocument/2006/relationships/hyperlink" Target="http://mek.oszk.hu/html/vgi/kereses/kereses.phtml?id=945&amp;table=dc_subject&amp;mezo=keyword&amp;mezoertek1=magyar+irodalom&amp;mezoertek2=&apos;&apos;" TargetMode="External"/><Relationship Id="rId6" Type="http://schemas.openxmlformats.org/officeDocument/2006/relationships/hyperlink" Target="http://mek.oszk.hu/00900/00945/" TargetMode="External"/><Relationship Id="rId7" Type="http://schemas.openxmlformats.org/officeDocument/2006/relationships/hyperlink" Target="http://mek.oszk.hu/html/vgi/kereses/kereses.phtml?id=945&amp;table=dc_subject&amp;mezo=keyword&amp;mezoertek1=J%F3kai+M%F3r+%281825-1904%29&amp;mezoertek2=&apos;&apos;" TargetMode="External"/><Relationship Id="rId8" Type="http://schemas.openxmlformats.org/officeDocument/2006/relationships/hyperlink" Target="http://mek.oszk.hu/00900/00945/" TargetMode="External"/><Relationship Id="rId9" Type="http://schemas.openxmlformats.org/officeDocument/2006/relationships/hyperlink" Target="http://mek.oszk.hu/00900/00945/html/" TargetMode="External"/><Relationship Id="rId10" Type="http://schemas.openxmlformats.org/officeDocument/2006/relationships/hyperlink" Target="http://mek.oszk.hu/00900/00945/" TargetMode="External"/><Relationship Id="rId11" Type="http://schemas.openxmlformats.org/officeDocument/2006/relationships/hyperlink" Target="http://mek.oszk.hu/00900/00945/" TargetMode="External"/><Relationship Id="rId12" Type="http://schemas.openxmlformats.org/officeDocument/2006/relationships/hyperlink" Target="http://mek.oszk.hu/00900/00945/" TargetMode="External"/><Relationship Id="rId13" Type="http://schemas.openxmlformats.org/officeDocument/2006/relationships/hyperlink" Target="http://mek.oszk.hu/00900/00945/" TargetMode="External"/><Relationship Id="rId14" Type="http://schemas.openxmlformats.org/officeDocument/2006/relationships/hyperlink" Target="http://mek.oszk.hu/00900/00945/" TargetMode="External"/><Relationship Id="rId15" Type="http://schemas.openxmlformats.org/officeDocument/2006/relationships/hyperlink" Target="http://mek.oszk.hu/00900/00945/" TargetMode="External"/><Relationship Id="rId16" Type="http://schemas.openxmlformats.org/officeDocument/2006/relationships/hyperlink" Target="http://mek.oszk.hu/00900/00945/html/" TargetMode="External"/><Relationship Id="rId17" Type="http://schemas.openxmlformats.org/officeDocument/2006/relationships/hyperlink" Target="http://mek.oszk.hu/00900/00945/00945.doc" TargetMode="External"/><Relationship Id="rId18" Type="http://schemas.openxmlformats.org/officeDocument/2006/relationships/hyperlink" Target="http://mek.oszk.hu/00900/00945/00945.doc" TargetMode="External"/><Relationship Id="rId19" Type="http://schemas.openxmlformats.org/officeDocument/2006/relationships/hyperlink" Target="http://mek.oszk.hu/00900/00945/00945.rtf" TargetMode="External"/><Relationship Id="rId20" Type="http://schemas.openxmlformats.org/officeDocument/2006/relationships/hyperlink" Target="http://mek.oszk.hu/00900/00945/00945.rtf" TargetMode="External"/><Relationship Id="rId21" Type="http://schemas.openxmlformats.org/officeDocument/2006/relationships/hyperlink" Target="http://mek.oszk.hu/00900/00945/00945.rtf" TargetMode="External"/><Relationship Id="rId22" Type="http://schemas.openxmlformats.org/officeDocument/2006/relationships/hyperlink" Target="http://mek.oszk.hu/00900/00945/00945.pdf" TargetMode="External"/><Relationship Id="rId23" Type="http://schemas.openxmlformats.org/officeDocument/2006/relationships/hyperlink" Target="http://mek.oszk.hu/00900/00945/00945.pdf" TargetMode="External"/><Relationship Id="rId24" Type="http://schemas.openxmlformats.org/officeDocument/2006/relationships/hyperlink" Target="http://mek.oszk.hu/00900/00945/00945.pdf" TargetMode="External"/><Relationship Id="rId25" Type="http://schemas.openxmlformats.org/officeDocument/2006/relationships/hyperlink" Target="http://mek.oszk.hu/00900/00945/00945.lit" TargetMode="External"/><Relationship Id="rId26" Type="http://schemas.openxmlformats.org/officeDocument/2006/relationships/hyperlink" Target="http://mek.oszk.hu/00900/00945/00945.lit" TargetMode="External"/><Relationship Id="rId27" Type="http://schemas.openxmlformats.org/officeDocument/2006/relationships/hyperlink" Target="http://mek.oszk.hu/00900/00945/00945.lit" TargetMode="External"/><Relationship Id="rId28" Type="http://schemas.openxmlformats.org/officeDocument/2006/relationships/hyperlink" Target="http://mek.oszk.hu/00900/00945/" TargetMode="External"/><Relationship Id="rId29" Type="http://schemas.openxmlformats.org/officeDocument/2006/relationships/hyperlink" Target="http://mek.oszk.hu/00900/00945/" TargetMode="External"/><Relationship Id="rId30" Type="http://schemas.openxmlformats.org/officeDocument/2006/relationships/hyperlink" Target="http://mek.oszk.hu/katalog/" TargetMode="External"/><Relationship Id="rId31" Type="http://schemas.openxmlformats.org/officeDocument/2006/relationships/hyperlink" Target="http://mek.oszk.hu/00900/00945/" TargetMode="External"/><Relationship Id="rId32" Type="http://schemas.openxmlformats.org/officeDocument/2006/relationships/hyperlink" Target="http://mek.oszk.hu/00900/00945/" TargetMode="External"/><Relationship Id="rId33" Type="http://schemas.openxmlformats.org/officeDocument/2006/relationships/hyperlink" Target="http://mek.oszk.hu/00900/00945/00945html.zip" TargetMode="External"/><Relationship Id="rId34" Type="http://schemas.openxmlformats.org/officeDocument/2006/relationships/hyperlink" Target="http://mek.oszk.hu/00900/00945/00945html.zip" TargetMode="External"/><Relationship Id="rId35" Type="http://schemas.openxmlformats.org/officeDocument/2006/relationships/hyperlink" Target="http://mek.oszk.hu/00900/00945/00945doc.zip" TargetMode="External"/><Relationship Id="rId36" Type="http://schemas.openxmlformats.org/officeDocument/2006/relationships/hyperlink" Target="http://mek.oszk.hu/00900/00945/00945doc.zip" TargetMode="External"/><Relationship Id="rId37" Type="http://schemas.openxmlformats.org/officeDocument/2006/relationships/hyperlink" Target="http://mek.oszk.hu/00900/00945/00945doc.zip" TargetMode="External"/><Relationship Id="rId38" Type="http://schemas.openxmlformats.org/officeDocument/2006/relationships/hyperlink" Target="http://mek.oszk.hu/00900/00945/00945rtf.zip" TargetMode="External"/><Relationship Id="rId39" Type="http://schemas.openxmlformats.org/officeDocument/2006/relationships/hyperlink" Target="http://mek.oszk.hu/00900/00945/00945rtf.zip" TargetMode="External"/><Relationship Id="rId40" Type="http://schemas.openxmlformats.org/officeDocument/2006/relationships/hyperlink" Target="http://mek.oszk.hu/00900/00945/00945rtf.zip" TargetMode="External"/><Relationship Id="rId41" Type="http://schemas.openxmlformats.org/officeDocument/2006/relationships/hyperlink" Target="http://mek.oszk.hu/00900/00945/00945pdf.zip" TargetMode="External"/><Relationship Id="rId42" Type="http://schemas.openxmlformats.org/officeDocument/2006/relationships/hyperlink" Target="http://mek.oszk.hu/00900/00945/00945pdf.zip" TargetMode="External"/><Relationship Id="rId43" Type="http://schemas.openxmlformats.org/officeDocument/2006/relationships/hyperlink" Target="http://mek.oszk.hu/00900/00945/00945pdf.zip" TargetMode="External"/><Relationship Id="rId44" Type="http://schemas.openxmlformats.org/officeDocument/2006/relationships/hyperlink" Target="http://mek.oszk.hu/00900/00945/" TargetMode="External"/><Relationship Id="rId45" Type="http://schemas.openxmlformats.org/officeDocument/2006/relationships/hyperlink" Target="http://mek.oszk.hu/00900/00945/" TargetMode="External"/><Relationship Id="rId46" Type="http://schemas.openxmlformats.org/officeDocument/2006/relationships/hyperlink" Target="http://mek.oszk.hu/html/vgi/kapcsolodo.php3?id=00945&amp;szerzok=Miksz%E1th+K%E1lm%E1n&amp;cim=J%F3kai+M%F3r+%E9lete+%E9s+kora" TargetMode="External"/><Relationship Id="rId47" Type="http://schemas.openxmlformats.org/officeDocument/2006/relationships/hyperlink" Target="http://mek.oszk.hu/html/vgi/konyvkereso.php3?id=00945&amp;szerzok=Miksz%E1th+K%E1lm%E1n&amp;cim=J%F3kai+M%F3r+%E9lete+%E9s+kora" TargetMode="External"/><Relationship Id="rId48" Type="http://schemas.openxmlformats.org/officeDocument/2006/relationships/hyperlink" Target="mailto:info@mek.oszk.hu,arcadat@axelero.hu" TargetMode="External"/><Relationship Id="rId49" Type="http://schemas.openxmlformats.org/officeDocument/2006/relationships/hyperlink" Target="http://mek.oszk.hu/00900/00945/" TargetMode="External"/><Relationship Id="rId50" Type="http://schemas.openxmlformats.org/officeDocument/2006/relationships/hyperlink" Target="http://www.arcanum.hu/kiadvanyok/irodalom/mikszath_kalman_osszes_muvei.html" TargetMode="External"/><Relationship Id="rId5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oki.hu/" TargetMode="Externa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532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igitalizált oktatási anyagok magyar nyelvből és irodalomból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3715920"/>
            <a:ext cx="401328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Hajdicsné Dr. Varga Katalin PhD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Kaposvári Egyetem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Magyar Nyelvészeti  és Irodalmi Tanszék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932360" y="1557360"/>
            <a:ext cx="3527280" cy="223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5395-8406-4CC8-A929-C8D93F4DCD8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Kulcsszavas keresések és találato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digitalizált oktatás magyar nyelvből és irodalomból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kb. 643 találat – 130 találatot mutatott me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Használható találatok száma: </a:t>
            </a:r>
            <a:r>
              <a:rPr b="0" lang="hu-HU" sz="2800" spc="-1" strike="noStrike">
                <a:solidFill>
                  <a:srgbClr val="cc99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21. Gila Krisztina informatikataná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Ha szeretnél egy jó órát/projektet – IKT eszközök a közoktatásban” (pályázat – Neumann Számítógép-tudományi Társasá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785B-E311-460E-ACA6-76E42B1A155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Kulcsszavas keresések, találatok 2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6. Világ – Nyel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yanyelvi beszédkultúra a nyelvi előkészítő tanfolyamon – tanterv (36 óra) és tananyagok CD-n (2004. március 19. OKM honlapjá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sak ismertető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gény alapján a tananyagokat teljes terjedelemben elküldjük az érdeklődő középiskoláknak.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99ff"/>
                </a:solidFill>
                <a:latin typeface="Arial"/>
              </a:rPr>
              <a:t>VAJON HÁNY ISKOLA KÉRHETT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33D6-0307-465C-9ABB-EB937AC7B45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Kulcsszavas keresések, találatok 3.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96. ARCANUM CD-k (megrendelhetők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y Endre összes műve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rodalmi arcképcsarn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ókai Mór összes műve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magyar irodalom történe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kszáth Kálmán összes műve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émeth László összes műve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erstá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E0CB-30C2-4BD0-B2CF-7A2216BE9F1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Kulcsszavas keresések, találatok 4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digitalizált oktatási anyagok magyar nyelvből és irodalomból”   kb. 9 talál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Használható találatok száma: </a:t>
            </a:r>
            <a:r>
              <a:rPr b="0" lang="hu-HU" sz="2400" spc="-1" strike="noStrike">
                <a:solidFill>
                  <a:srgbClr val="cc99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magyar nyelv és irodalom CD-k” kb. 10600 talál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Használható találatok száma 1-100-ban: </a:t>
            </a:r>
            <a:r>
              <a:rPr b="0" lang="hu-HU" sz="2400" spc="-1" strike="noStrike">
                <a:solidFill>
                  <a:srgbClr val="cc99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13. találat: Informatika-Számítástechnika Tanárok 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Egyesülete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a) Multimédia-kalauz; Magyar nyelv és irodalom 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1-8. évfolyamna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b) Tantárgyi feladatbankok: Nyelvtan 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feladatlapok 5-8. osztá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F15D-9372-429F-9053-FCE60699661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Kulcsszavas keresések, találatok 5.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26. találat: Neumann-ház (Neumann János Digitális Könyvtár és Multimédia Központ Kht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Magyar CD-ROM diszkográfia – benne 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irodalom és nyelvtan 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cc99ff"/>
                </a:solidFill>
                <a:latin typeface="Arial"/>
              </a:rPr>
              <a:t>Rövid ismertetés olvasható. Megrendelhető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középiskolai digitális tananyagok magyar nyelvből és irodalomból”  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kb. 320 talál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Találatok száma 1-100-ból: </a:t>
            </a:r>
            <a:r>
              <a:rPr b="0" lang="hu-HU" sz="2400" spc="-1" strike="noStrike">
                <a:solidFill>
                  <a:srgbClr val="cc99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2. találat: Világ – Nyelv </a:t>
            </a:r>
            <a:r>
              <a:rPr b="0" lang="hu-HU" sz="2400" spc="-1" strike="noStrike">
                <a:solidFill>
                  <a:srgbClr val="003366"/>
                </a:solidFill>
                <a:latin typeface="Arial Narrow"/>
              </a:rPr>
              <a:t>← ugyanaz, mint az első keresésné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4A29-4F22-4A77-A0C3-813AE60C1A8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Kulcsszavas keresések, találatok 6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nyelvtan és irodalom adatbázisok”  kb. 84000 talál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Használható találatok száma 1-100-ból: </a:t>
            </a:r>
            <a:r>
              <a:rPr b="0" lang="hu-HU" sz="2400" spc="-1" strike="noStrike">
                <a:solidFill>
                  <a:srgbClr val="cc99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3366"/>
                </a:solidFill>
                <a:latin typeface="Arial"/>
              </a:rPr>
              <a:t>1. ugyanaz, mint a 3. keresésnél: Informatika-Számítástechnika Tanárok Egyesülete (Multimédia-kalauz; Feladatbankok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3366"/>
                </a:solidFill>
                <a:latin typeface="Arial"/>
              </a:rPr>
              <a:t>2. ugyanaz, mint az 1. keresésnél: ARCAN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6. Kempelen Farkas Hallgatói Információs Központ Digitális Tankönyvtára: a helyszínen használható anyagokat sorolja f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3300"/>
                </a:solidFill>
                <a:latin typeface="Arial"/>
              </a:rPr>
              <a:t>15. Sulinet Digitális Adatbázis - Közismereti tananyagok – Magyar nyelv és irodal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- LETÖLTHETŐ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- TÖBB AUDIOVIZUÁLIS (szöveg, kép, ha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D2A8-4221-42FE-8E46-E76346A274D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Általam ismert honlapokon talált anyago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gyartanárként mivel is kezdődhetne a lis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cc99ff"/>
                </a:solidFill>
                <a:latin typeface="Arial"/>
              </a:rPr>
              <a:t>?</a:t>
            </a:r>
            <a:endParaRPr b="0" lang="en-US" sz="1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F0A4-185F-485A-A1F8-FFA8659B542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www.magyartanarok.freeweb.h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WEB-HELYEK</a:t>
            </a:r>
            <a:r>
              <a:rPr b="1" lang="hu-HU" sz="14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3366"/>
                </a:solidFill>
                <a:latin typeface="Arial"/>
              </a:rPr>
              <a:t>IRODALO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Digitális Irodalmi Akadémia - 61 kortárs magyar író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mûvei</a:t>
            </a:r>
            <a:r>
              <a:rPr b="1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Magyar Elektronikus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Könyvtár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Litera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 – irodalmi portál (mai magyar irodalom)</a:t>
            </a:r>
            <a:r>
              <a:rPr b="1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hu-HU" sz="14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Alkotói portrék a magyar irodalomból (Sulinet)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A régi magyar vers repertóriuma, ELTE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9"/>
              </a:rPr>
              <a:t>Biblia - a 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0"/>
              </a:rPr>
              <a:t>Károli-Biblia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1"/>
              </a:rPr>
              <a:t> teljes szövege, keresőkkel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2"/>
              </a:rPr>
              <a:t>DOKK, Irodalmi Kikötő – mai magyar költészet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3"/>
              </a:rPr>
              <a:t>Énekelt versek – Kosbor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4"/>
              </a:rPr>
              <a:t>Együttes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5"/>
              </a:rPr>
              <a:t>Hálózati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6"/>
              </a:rPr>
              <a:t> kritikai kiadások, ELTE (Balassi, Rimay, Zrínyi, József Attila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7"/>
              </a:rPr>
              <a:t>mûvei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8"/>
              </a:rPr>
              <a:t>,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9"/>
              </a:rPr>
              <a:t>stb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0"/>
              </a:rPr>
              <a:t>…)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1"/>
              </a:rPr>
              <a:t>KIA - Kortárs Irodalmi Adattár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2"/>
              </a:rPr>
              <a:t>Kontextus.hu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3"/>
              </a:rPr>
              <a:t> – Kortárs Irodalmi Adattár és Portál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4"/>
              </a:rPr>
              <a:t>Kortárs magyar irodalom (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5"/>
              </a:rPr>
              <a:t>Sztaki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6"/>
              </a:rPr>
              <a:t>)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7"/>
              </a:rPr>
              <a:t>KÖNYVAJÁNLÓ (Drámajáték, retorika, költészet )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8"/>
              </a:rPr>
              <a:t>Mai magyar irodalom az interneten (Debreceni Irodalmi Lapok)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9"/>
              </a:rPr>
              <a:t>A Nyugat (a folyóirat számainak teljes szövege)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30"/>
              </a:rPr>
              <a:t>Pánsíp – Balla D. Károly iratfolyama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31"/>
              </a:rPr>
              <a:t>Vajdasági magyar irodalmi oktató CD internetes változat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3366"/>
                </a:solidFill>
                <a:latin typeface="Arial"/>
              </a:rPr>
              <a:t>NYELVÉSZE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32"/>
              </a:rPr>
              <a:t>Magyar Történeti Szövegtár (MTA Nyelvtudományi Intézet)</a:t>
            </a:r>
            <a:r>
              <a:rPr b="1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hu-HU" sz="1400" spc="-1" strike="noStrike" u="sng">
                <a:solidFill>
                  <a:srgbClr val="003366"/>
                </a:solidFill>
                <a:uFillTx/>
                <a:latin typeface="Arial"/>
                <a:hlinkClick r:id="rId33"/>
              </a:rPr>
              <a:t>A Magyar Nyelvtudományi Tanszék kiadványai (Debreceni Egyetem)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34"/>
              </a:rPr>
              <a:t>Édes Anyanyelvünk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35"/>
              </a:rPr>
              <a:t>Magyar Nyelv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36"/>
              </a:rPr>
              <a:t>Magyar Nyelvőr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37"/>
              </a:rPr>
              <a:t>Magyar szleng (Debreceni Egyetem)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38"/>
              </a:rPr>
              <a:t>Nyelvtudomány a MEK-en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39"/>
              </a:rPr>
              <a:t>Számítógépes Nyelvtörténeti Adattár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40"/>
              </a:rPr>
              <a:t>Szótárak a MEK-en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56DD-EE26-488D-8733-10C50C42064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www.magyartanarok.freeweb.h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3366"/>
                </a:solidFill>
                <a:latin typeface="Arial"/>
              </a:rPr>
              <a:t>MŰVÉSZE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A világ szépművészeti múzeumai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Képzőművészet Magyarországon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Web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Gallery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 of Art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3366"/>
                </a:solidFill>
                <a:latin typeface="Arial"/>
              </a:rPr>
              <a:t>OKTATÁ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Cikkek a magyartanításról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Oktatás - a KFKI ajánlója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Pedagógus állásbörze, szakmai oldal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3366"/>
                </a:solidFill>
                <a:latin typeface="Arial"/>
              </a:rPr>
              <a:t>FOLYÓIRATO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9"/>
              </a:rPr>
              <a:t>Alföld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0"/>
              </a:rPr>
              <a:t>Élet és Irodalom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1"/>
              </a:rPr>
              <a:t>Iskolakultúra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2"/>
              </a:rPr>
              <a:t>Liget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3"/>
              </a:rPr>
              <a:t>Nyugat (a folyóirat számainak teljes szövege, keresőkkel)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3366"/>
                </a:solidFill>
                <a:latin typeface="Arial"/>
              </a:rPr>
              <a:t>INTÉZMÉNYE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4"/>
              </a:rPr>
              <a:t>Budapesti Városházi Lapok (A Főváros web-lapja)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5"/>
              </a:rPr>
              <a:t>Fővárosi Pedagógiai Intézet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6"/>
              </a:rPr>
              <a:t>Jelenkor Kiadó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7"/>
              </a:rPr>
              <a:t>Kossuth Klub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8"/>
              </a:rPr>
              <a:t>Könyvtárostanárok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9"/>
              </a:rPr>
              <a:t> Egyesülete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0"/>
              </a:rPr>
              <a:t>OKI – Országos Közoktatási Intézet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1"/>
              </a:rPr>
              <a:t>Oktatási Minisztérium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2"/>
              </a:rPr>
              <a:t>Országos Pedagógiai Könyvtár és Múzeum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3"/>
              </a:rPr>
              <a:t>Osztályfőnökök Országos Szakmai Egyesülete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4"/>
              </a:rPr>
              <a:t>Pont Kiadó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5"/>
              </a:rPr>
              <a:t>Sulinet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6"/>
              </a:rPr>
              <a:t>Történelemtanárok Egylete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3366"/>
                </a:solidFill>
                <a:latin typeface="Arial"/>
              </a:rPr>
              <a:t>LINKGYŰJTEMÉNYE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7"/>
              </a:rPr>
              <a:t>Irodalmi, nyelvészeti, művészeti stb. linkek gyűjteménye (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8"/>
              </a:rPr>
              <a:t>wahoo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9"/>
              </a:rPr>
              <a:t>)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30"/>
              </a:rPr>
              <a:t>Kulturális folyóiratok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31"/>
              </a:rPr>
              <a:t>Magyar Kulturális Honlap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32"/>
              </a:rPr>
              <a:t>Rendkívül gazdag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33"/>
              </a:rPr>
              <a:t>linkgyûjtemény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34"/>
              </a:rPr>
              <a:t> mindenféle témában (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35"/>
              </a:rPr>
              <a:t>lap.hu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36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BD84-5197-4C4C-860D-46DB6D65DFC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ovábbi „honlapjaim”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www.sulinet.hu/Kossuth/nyelvt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Interaktív magyar nyelvta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3300"/>
                </a:solidFill>
                <a:latin typeface="Arial"/>
              </a:rPr>
              <a:t>nem található (sajnos, már több hónapj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hu-HU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magyarirodalom.lap.h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Szövegek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- Képek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- Hangzó anyag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www.emir.h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Elektronikus magyar irodalom – online szövege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40 mai alkot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ABE4-0DC6-4A9A-A1AC-EFDA2EFB5FB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tézményi felszereltség – Internet-kapcsolat, multimédiás gép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Munkaállomások szám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003366"/>
                </a:solidFill>
                <a:uFillTx/>
                <a:latin typeface="Arial"/>
              </a:rPr>
              <a:t>2003</a:t>
            </a:r>
            <a:r>
              <a:rPr b="0" lang="hu-HU" sz="1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0" lang="hu-HU" sz="1800" spc="-1" strike="noStrike" u="sng">
                <a:solidFill>
                  <a:srgbClr val="003366"/>
                </a:solidFill>
                <a:uFillTx/>
                <a:latin typeface="Arial"/>
              </a:rPr>
              <a:t>             200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122 566  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          148 06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1 gépre jutó tanulók száma a középiskolában: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6,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Európai Unió ajánlása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10-12 tanuló/gép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500" spc="-1" strike="noStrike">
                <a:solidFill>
                  <a:srgbClr val="003366"/>
                </a:solidFill>
                <a:latin typeface="Arial"/>
              </a:rPr>
              <a:t>(Apertus Közalapítvány Nemzeti Fejlesztési Terv Iroda)</a:t>
            </a:r>
            <a:endParaRPr b="0" lang="en-US" sz="5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7480" y="2664000"/>
            <a:ext cx="2990880" cy="350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038C-E76F-4B39-A639-477B21BC053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ovábbi „honlapjaim” 2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www.kiad.hu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Digitális Klasszika – A 18-19. sz. magyar irod. 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adatbázisa (Szegedi Tudományegyetem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www.irodalmiakademia.hu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A kortárs magyar irodalom alkotóinak 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elektronikus szövegei, életrajzzal, bibliográfiával, 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szakirodalomm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http://e-konyvtar.lap.hu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Magyar nyelv és irodalom; e-könyve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2E26-07B5-4D29-93BD-FA1757064DC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ovábbi honlapjaim 3.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www.neumann-haz.hu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Magyar Szövegtá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Kritikai kiadások; Népszerű kiadások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Magyar klasszikusok költeményei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Kortársaink művei; Szakirodalom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A XIX. századi magyar drámák történetébő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Képek a magyar irodalombó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kép- és diafilmgyűjtemén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Balassi Bálint Virtuális Kiállítá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Jeles napok oktatási segédanya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A603-E5FA-4C1A-9EC2-D5507D61E76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jánlás – beszerezhető anyago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Bondor Erika összeállításából: A hazai digitális taneszközök annotált oktatási ajánlása a 14-18 éves korosztály számára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Irodalom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1. Kapcsolatok: Kommunikációs nevelé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7 CD nyomtatott füzett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2. Világirodalom az ókortól napjainkig 10-16 éveseknek CD-RO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Video- és hangtár; fogalmak; alkotások; elemzések; filmrészletek színházi 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előadásokról; tesztban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3. Irodalom CD-RO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kronologikus irodalomtörténet; művészettörténeti korszakok; 50 íróportré; 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műelemzések; versek; színészi tolmácsolás audio-, illetve videofelvételeken; 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fogalomtá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4. Verstár – a magyar líra klasszikusai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49 költő verse és versfordítása; 5 órányi hanganyag jeles versmondók 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tolmácsolásáb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5. Madách: Az ember tragédiája 20 nyelven (nincs kereskedelmi forgalomban de másolni 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ingyen lehet – Magyar Irodalmi Társaság 1999. Frankfurti Könyvvásárra készült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0C03-424C-465B-BC2E-8A45692385B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szerezhető anyagok 2.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Nyelvt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1. Interaktív magyar nyelvtan. A magyar nyelv és helyesírás szabályai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önálló gyakorlási lehetőség: 400 nyelvtani feladatlap; 2000 lediktált gyakorló 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mondat (tollbamondás); 56 példaszöveg helyesírási hibáinak javítása és 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megoldása; teljesítményértékelé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2. Pannon enciklopédi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szöveg- és képanya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3. Anyanyelvi könyvespolc: Idegen szavak és kifejezések kéziszótára; Helyesírási 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kéziszótár; 14 ezer szavas értelmező szótár; A magyar helyesírás szabályai; 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Szinonima szó- és kifejezésgyűjtemény; Rontott szavak gyűjtemény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4. Nyelvészet és társadalo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Nyelvek, rétegnyelvek kialakulása; Szleng; Kommunikációs típusok; 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Nyelvészeti 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szótá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5. Magyar nyelvtan 1., 7-16 évesekne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képességfejlesztő CD-ROM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További válogatási lehetőség: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oki.hu/cikk.php?kod=informatika-Bondor-Hazai.html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CCC0-F546-4224-AD3E-5158374562E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6666"/>
                </a:solidFill>
                <a:latin typeface="Arial"/>
              </a:rPr>
              <a:t>Egy konkrét digitalizált tananyag: Barangolások Jókai Mórral (www.sulinet.hu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tanóra tárgya: Jókai Mór alkotásai, pályakép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tanítási módszer: - frontális osztálymunka (előadás) és foglalkoztató óra (csoportmunk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zközigény: PC + projektor, internetes eléré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tanítás helye a tanmenetben: 11. évfolyam: Jókai Mór pályaképe és regényei 12. évfolyam: Jókai Mór – tételó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tanóra menete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1. óravázl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2. óravázl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3. óravázl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7ED1-07A1-4708-A1E4-615C98CB675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Óravázlatok 1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Bevezető ó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Elemzés tárgya: Jókai Mór élete és pályaké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Segédeszközök az elemzéshez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SDT videoanyagai (projekto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SDT írásos anyagai (projekto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4204-9F3D-4389-A3F8-A9D02F8DEB7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Óravázl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z óra menet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Lépések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SD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Idő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(perc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Jókai helye a magy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rodalomba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Jókai életrajza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 Jókai tanulóévei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 Jókai és Petőfi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 Jókai és a forradalom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ideo 1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. Jókai a forradalom utá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ideo 1., 2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. A regényíró Jókai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3719-ED6C-4B7E-896B-423267376C5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lytatá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SDT tartalom: SDT Irodalom / Hungaria Litterata – Műemlék (SD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SDT Tartalomjegyzék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A Hungaria Litterata – Műemlék tananyag megfelelő elemei és rövid leírás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3366"/>
                </a:solidFill>
                <a:uFillTx/>
                <a:latin typeface="Arial"/>
              </a:rPr>
              <a:t>TARTAL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Hasznos linke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9B07-C68B-4E3A-9AC5-AD77898E674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DT TARTALOMJEGYZÉ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ókai és a forradalom – video 1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ókai gondolatai a márciusi forradalomról és a szabadságharc bukásáró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ókai szerepe a forradalomban, házassága, sikerei és bujdosás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 Tardonára bujdosó Jóka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ókai: Az arany ember – video 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omárom, a kereskedővár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 kicsi „Bábel”, a gyermekkori élmények hatása a regény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ókai világa, írói módsze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gy gazdag komáromi polgár legendáj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 Senki szige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E850-188E-41C1-B2C9-86F5BDE57DB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asznos linke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3366"/>
                </a:solidFill>
                <a:uFillTx/>
                <a:latin typeface="Arial"/>
              </a:rPr>
              <a:t>Jókai Mór élete és művésze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3366"/>
                </a:solidFill>
                <a:uFillTx/>
                <a:latin typeface="Arial"/>
              </a:rPr>
              <a:t>Jókai Mór a Wikipédiá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3366"/>
                </a:solidFill>
                <a:uFillTx/>
                <a:latin typeface="Arial"/>
              </a:rPr>
              <a:t>Jókai Mór: Az arany ember (teljes regén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3366"/>
                </a:solidFill>
                <a:uFillTx/>
                <a:latin typeface="Arial"/>
              </a:rPr>
              <a:t>Mikszáth Kálmán: Jókai Mór élete és ko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3366"/>
                </a:solidFill>
                <a:uFillTx/>
                <a:latin typeface="Arial"/>
              </a:rPr>
              <a:t>Jókai-emlékhelyek Magyarország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AD5F-AF5A-4C2F-A38B-74917469E7A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alitá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sak 40 000 gép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kalmas az új felhasználói programok futtatásá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ndelkezik Internet-kapcsolatt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kalmas multimédiás fájlok futtatásá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PEDI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6000" spc="-1" strike="noStrike">
                <a:solidFill>
                  <a:srgbClr val="ff3300"/>
                </a:solidFill>
                <a:latin typeface="Arial Narrow"/>
              </a:rPr>
              <a:t>↓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148360" y="2852640"/>
            <a:ext cx="2808360" cy="244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890B-50BA-4D48-A8B1-A829E3CB1E2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ókai emlékhelyek Magyarország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ww.vendegvaro.hu/50-16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ókai arcképe, rövid életpálya, főbb műve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Kapcsolódó objektumo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Jókai-villa, Balatonfüred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Jókai Múzeum, Balatonfüred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Jókai Mór szobra, Balatonfü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8C3C-D363-4CE6-A272-CACDA0816AB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kszáth Kálmán: Jókai Mór élete és kora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ttp://mek.oszk.hu/00900/00945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Mikszáth Kálmán </a:t>
            </a:r>
            <a:br>
              <a:rPr sz="900"/>
            </a:b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Jókai Mór élete és kora</a:t>
            </a:r>
            <a:r>
              <a:rPr b="0" lang="hu-HU" sz="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Szépirodalom, népköltészet/Klasszikus magyar irodalom</a:t>
            </a:r>
            <a:r>
              <a:rPr b="0" lang="hu-HU" sz="9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900"/>
            </a:b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(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magyar irodalom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, 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Jókai Mór (1825-1904)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)</a:t>
            </a:r>
            <a:r>
              <a:rPr b="0" lang="hu-HU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9"/>
              </a:rPr>
              <a:t> 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10"/>
              </a:rPr>
              <a:t>SZERZŐI JOGOK</a:t>
            </a:r>
            <a:r>
              <a:rPr b="1" lang="hu-HU" sz="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hu-HU" sz="900" spc="-1" strike="noStrike" u="sng">
                <a:solidFill>
                  <a:srgbClr val="003366"/>
                </a:solidFill>
                <a:uFillTx/>
                <a:latin typeface="Arial"/>
                <a:hlinkClick r:id="rId11"/>
              </a:rPr>
              <a:t>"Kétség se fér hozzá, hogy egy csodás, jó és ártatlan ember volt, finom lelkű, tele gyöngédséggel és érzékenységgel - az előbbit sokszor mutatta meg és szerette ezt csattanós jelenetekben tenni, mintegy a külső hatásra is számítva, de az utóbbit gondosan rejtegette." 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12"/>
              </a:rPr>
              <a:t>FÜLSZÖVEG</a:t>
            </a:r>
            <a:r>
              <a:rPr b="1" lang="hu-HU" sz="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13"/>
              </a:rPr>
              <a:t>KATALÓGUS-_x000b_CÉDULA</a:t>
            </a:r>
            <a:r>
              <a:rPr b="1" lang="hu-HU" sz="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14"/>
              </a:rPr>
              <a:t>MEGTEKINTHETŐ VERZIÓK: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15"/>
              </a:rPr>
              <a:t> </a:t>
            </a:r>
            <a:r>
              <a:rPr b="0" lang="hu-HU" sz="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16"/>
              </a:rPr>
              <a:t>HTML_x000b_*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17"/>
              </a:rPr>
              <a:t>Word_x000b_840 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18"/>
              </a:rPr>
              <a:t>kbyte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19"/>
              </a:rPr>
              <a:t>RTF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20"/>
              </a:rPr>
              <a:t>_x000b_1060 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21"/>
              </a:rPr>
              <a:t>kbyte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22"/>
              </a:rPr>
              <a:t>PDF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23"/>
              </a:rPr>
              <a:t>_x000b_1571 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24"/>
              </a:rPr>
              <a:t>kbyte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25"/>
              </a:rPr>
              <a:t>LIT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26"/>
              </a:rPr>
              <a:t>_x000b_603 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27"/>
              </a:rPr>
              <a:t>kbyte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28"/>
              </a:rPr>
              <a:t>JPEG</a:t>
            </a:r>
            <a:br>
              <a:rPr sz="900"/>
            </a:br>
            <a:r>
              <a:rPr b="1" lang="hu-HU" sz="9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29"/>
              </a:rPr>
              <a:t>OLVASÓI_x000b_VÉLEMÉNYEK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30"/>
              </a:rPr>
              <a:t>KERESÉS_x000b_A MEK-BEN</a:t>
            </a:r>
            <a:r>
              <a:rPr b="1" lang="hu-HU" sz="900" spc="-1" strike="noStrike">
                <a:solidFill>
                  <a:srgbClr val="003366"/>
                </a:solidFill>
                <a:latin typeface="Arial"/>
              </a:rPr>
              <a:t>      </a:t>
            </a:r>
            <a:r>
              <a:rPr b="0" lang="hu-HU" sz="900" spc="-1" strike="noStrike">
                <a:solidFill>
                  <a:srgbClr val="003366"/>
                </a:solidFill>
                <a:latin typeface="Arial"/>
              </a:rPr>
              <a:t> 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31"/>
              </a:rPr>
              <a:t>ZIP-PEL CSOMAGOLT VERZIÓK:</a:t>
            </a:r>
            <a:r>
              <a:rPr b="0" lang="hu-HU" sz="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32"/>
              </a:rPr>
              <a:t> </a:t>
            </a:r>
            <a:r>
              <a:rPr b="0" lang="hu-HU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33"/>
              </a:rPr>
              <a:t>HTML_x000b_363 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34"/>
              </a:rPr>
              <a:t>kbyte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35"/>
              </a:rPr>
              <a:t>Word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36"/>
              </a:rPr>
              <a:t>_x000b_371 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37"/>
              </a:rPr>
              <a:t>kbyte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38"/>
              </a:rPr>
              <a:t>RTF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39"/>
              </a:rPr>
              <a:t>_x000b_387 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40"/>
              </a:rPr>
              <a:t>kbyte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41"/>
              </a:rPr>
              <a:t>PDF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42"/>
              </a:rPr>
              <a:t>_x000b_1495 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43"/>
              </a:rPr>
              <a:t>kbyte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44"/>
              </a:rPr>
              <a:t>XML</a:t>
            </a:r>
            <a:br>
              <a:rPr sz="900"/>
            </a:br>
            <a:r>
              <a:rPr b="1" lang="hu-HU" sz="9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45"/>
              </a:rPr>
              <a:t>Egyéb</a:t>
            </a:r>
            <a:br>
              <a:rPr sz="900"/>
            </a:br>
            <a:r>
              <a:rPr b="1" lang="hu-HU" sz="9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46"/>
              </a:rPr>
              <a:t>KAPCSOLÓDÓ_x000b_OLDALAK</a:t>
            </a:r>
            <a:r>
              <a:rPr b="1" lang="hu-HU" sz="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47"/>
              </a:rPr>
              <a:t>KÖNYVKERESÉS</a:t>
            </a:r>
            <a:r>
              <a:rPr b="1" lang="hu-HU" sz="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48"/>
              </a:rPr>
              <a:t>INFORMÁCIÓ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49"/>
              </a:rPr>
              <a:t>2003-07-23 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50"/>
              </a:rPr>
              <a:t>FORRÁS</a:t>
            </a:r>
            <a:r>
              <a:rPr b="1" lang="hu-HU" sz="900" spc="-1" strike="noStrike">
                <a:solidFill>
                  <a:srgbClr val="003366"/>
                </a:solidFill>
                <a:latin typeface="Arial"/>
              </a:rPr>
              <a:t> SZÁMLÁLÓ: 20571http://mek.oszk.hu/00900/00945/#http://mek.oszk.hu/00900/00945</a:t>
            </a:r>
            <a:br>
              <a:rPr sz="900"/>
            </a:br>
            <a:r>
              <a:rPr b="1" lang="hu-HU" sz="900" spc="-1" strike="noStrike">
                <a:solidFill>
                  <a:srgbClr val="003366"/>
                </a:solidFill>
                <a:latin typeface="Arial"/>
              </a:rPr>
              <a:t>URN: http://nbn.urn.hu/N2L?urn:nbn:hu-2944</a:t>
            </a:r>
            <a:br>
              <a:rPr sz="900"/>
            </a:br>
            <a:r>
              <a:rPr b="1" lang="hu-HU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361E-B850-41A7-AF0E-B44D4BF7B43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nyanyelvi beszédkultúra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gitális tananya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ww.om.hu/letolt/retorika/index.ht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észítette: a budapesti Toldy Ferenc Gimnázium magyar munkaközösség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 digitális tananyag tartalomjegyzék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Általános bevezető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anterv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ananya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eszédképzés, kommunikációs ismeretek, viselkedéskultúr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evezetés a szövegértés és -alkotás folyamatáh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tilisztik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ispu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datbáziso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egítsé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F2FC-6C0F-4ED4-8407-24CC81F38831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nyanyelvi beszédkultúra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szédképzés, kommunikációs ismeretek, viselkedéskultú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szédtechni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eladat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iejtés – 2. feladat: Olvassátok soronként a verset, figyelve a tiszta szóvég-ejtésre!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YÍL - rá kattintva olvasható az egész v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46AC-503F-430A-A087-EF57E9D9994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tananyag hanganyag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Pl. Mensáros László: Radnóti Miklós: Hetedik eclog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Színdarabrészletek – Bulla Elma, Sulyok Mária: Örkény István: Macskajáté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Híres emberek beszéde: Interjúrészlete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Kertész Imré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Szent-Györgyi Albertt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Gábor Déness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B215-DB04-4246-8B8F-F8E0454A1F1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épgyűjtemén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Fotók diákokról (arcjáték+gesztus=kommunikáció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Portrék (festmények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Fotók ülő diákokró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Rajzok embercsoportokró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Hamlet – szereplőhál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Commedia dell’arte maszko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695D-9C95-475A-9623-BF5C7B7826F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pasztal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A magyar az interaktív megjelenítés szempontjábó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a(z egyik) legnehezebben szemléltethető 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tantár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- jelenleg kevés az elkészített anyagok 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animációtartal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- tovább kell gazdagítan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képanyagá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filmrészlete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kreatív interaktív tesztanyagá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72CF-F973-49EC-92C9-F0BF72014E2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 legyen a cé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zt akarom, hogy az énektanár muzsikáljon és komponáljon, az angoltanár írjon, a történelemtanár szeressen kastélyokban, régi helyeken kóborolni. Olyan embereket akarok, akik megértik, hogy a feladatuk az, hogy minél gazdagabbá tegyék az általuk tanított gyerekek tapasztalatát és szemléletét.”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angol iskolaigazgató – Fehér Péter: Konstruktív pedagógiai kísérletek számítógéppel. </a:t>
            </a: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oki.hu</a:t>
            </a: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 magyartanár fokozatosan igazodjon a változó világ követelményeihez a számítógéppel segített tanulás és az újszerű tanulási környezetek alkalmazásáv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átssza le” – alkalmazza az elkészített anyagoka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olgozzon ki – tapasztalataira, ismereteire építve, a felhasznált anyagok segítségével, majd önállóan – saját anyagoka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3634-C825-4FFC-9D27-1DA7C41902F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118160" y="1118520"/>
            <a:ext cx="72118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öszönöm a figyelmet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0020-A19F-4F95-AC2B-AC28DC88A927}" type="slidenum">
              <a:t>38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KT és hozzáadott érték a tanulási folyamatba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 diákok motivációjának növekedé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z iskolán belüli, iskolák közötti, az iskola és általában a társadalom közötti kapcsolat javulás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kapcsolódás egy azonos érdekeltségű világhálózatba és szakértői rendszerb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788000" y="2781360"/>
            <a:ext cx="3384360" cy="302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0D14-0896-49C9-8A8A-51DC87EB42F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 számítógép-használat előnyei az oktatás sorá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iverzalitá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gas motivációs szi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udiovizuális eszköz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kszínű, izgalm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akcióra alkalm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talmas mennyiségű adattárolásra kép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yorsan aktivizálható az adathalmaz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ktatóprogramok (otthoni ismétlésre, gyakorlásra i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3953-AEC3-4522-B0E8-08FC1B667A9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 számítógép-használat előnyei az oktatás során 2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dellezés, szimulálá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gas szellemi tevékenység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ntos, gyors visszajelzé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gyelemfejlesztő hatá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átszva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TANÍ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Önállóság fokozás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gyüttműködési készség fejleszté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yors és pontos reagálás iránti igény kialakulás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BFCE-0136-489A-9E72-7B0DD97113C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gitalizált oktatási anyagok készítésének, használatának előnye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gkönnyíti a tanárok munkájá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azdagítja a tananyag választéká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azdaságosabbá teszi a tananyagok előállítását és a tanulókhoz történő eljuttatásá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öveli a felzárkóztatás lehetősége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meli az oktatási segédanyagok színvonalá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hetővé teszi  új tanítási módszerek, eszközök kifejlesztésé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D271-EED4-4A2C-9D4F-75CD86387CA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kutatásról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66"/>
                </a:solidFill>
                <a:latin typeface="Arial"/>
              </a:rPr>
              <a:t>Célja: digitális oktatási anyagok gyűjtése magyar nyelvből és irodalomból az Internet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66"/>
                </a:solidFill>
                <a:latin typeface="Arial"/>
              </a:rPr>
              <a:t>Időpontja: 2007. január 16. 10.00-13.0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66"/>
                </a:solidFill>
                <a:latin typeface="Arial"/>
              </a:rPr>
              <a:t>Módszere: google kereső, kulcsszavas keresés (a kezdők tapasztalatlanságát imitálv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66"/>
                </a:solidFill>
                <a:latin typeface="Arial"/>
              </a:rPr>
              <a:t>Tapasztalat: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TÜRELEM</a:t>
            </a:r>
            <a:r>
              <a:rPr b="0" lang="hu-HU" sz="2000" spc="-1" strike="noStrike">
                <a:solidFill>
                  <a:srgbClr val="003366"/>
                </a:solidFill>
                <a:latin typeface="Arial"/>
              </a:rPr>
              <a:t> a kiadott találatok áttekintéséhe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162400" y="2708280"/>
            <a:ext cx="3103560" cy="316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5B2A-7079-4513-A55E-7787C0F385A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keresőbe beírt kulcsszavak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gitalizált oktatás magyar nyelvből és irodalomból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gitalizált oktatási anyagok magyar nyelvből és irodalomból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gyar nyelv és irodalom CD-k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özépiskolai digitális tananyagok magyar nyelvből és irodalomból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yelvtan és irodalom adatbázisok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9768-9DA2-4896-BC36-607F1C00BDC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3:28:34Z</dcterms:created>
  <dc:creator>Hajdics Győző</dc:creator>
  <dc:description/>
  <dc:language>en-US</dc:language>
  <cp:lastModifiedBy>varga.katalin</cp:lastModifiedBy>
  <dcterms:modified xsi:type="dcterms:W3CDTF">2009-11-05T06:59:51Z</dcterms:modified>
  <cp:revision>6</cp:revision>
  <dc:subject/>
  <dc:title>Digitalizált oktatási anyagok magyar nyelvből és irodalomból</dc:title>
</cp:coreProperties>
</file>