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09F-E610-497D-A828-1FBD733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64E-7D1D-410C-8480-CE1D2C80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ECB-BC14-424F-962E-4A9C1AC2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714-A5A5-449A-9C30-65BA6B6E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293-43A0-4029-8560-AD5DD80C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DF34-74D6-4412-AB44-2E294BD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25E5-FE30-4ED8-941D-F4BB51F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7E8-7138-441D-8C4A-B6FA916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EB33-9C03-4C41-BC42-2944DC8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0EB9-717F-4F1F-81ED-13C77080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C8C-5E1D-403E-B808-93C3550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C0B-AB66-44C0-AD68-3B1549A9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7FD9-8544-4A4F-B2A4-9028CE2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3F5-AB16-4EF1-9150-10E66DC2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11E-EDB7-4399-9A5C-AD3410E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32CC-FE88-4497-A03C-DEB3D5C9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A8F-1DE3-404F-AE4A-BA756F1F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713-AD87-4333-81CC-F1B6B61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57F-DC27-470A-A5D0-FD83F45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EAC-CEF4-494A-901D-820A3F9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F4C-5962-4C3A-9297-C50DFCB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CF2-81B7-4FC0-89CD-233D342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AAD-13E3-47B0-9625-0CD4461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4DA-B259-4894-9BE1-B8C16A2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BED-6570-430A-AA21-8A5C18E1C19C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759-72C6-49AF-AD44-342C644BCA54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llup.hu/Oktatas/ip/lexikon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Olvasás az interneten</a:t>
            </a:r>
            <a:br>
              <a:rPr sz="4000"/>
            </a:b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Mit, miért, hogyan olvasnak a leendő pedagógus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jdicsné Dr. Varga Katalin P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aposvári Egye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gyar Nyelvészeti és Irodalmi Tanszé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BC1-38DC-4606-97B5-82A2CF2AF3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Nyomtatott könyvek és cikkek Online katalógus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yar könyvtárak katalógusa (a LibriVision 15 adatbázisa: az OSZK / Online olvasói katalógus / Magyar könyvtárak katalógusai ) (http://nektar2.oszk.hu/librivision_hun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ungarika Információ (http://www.iif.hu/db/huni/index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etemi és főiskolai tankönyv adatbázis (http://www.iif.hu/db/efta/index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360-0D57-4CA7-B39F-40B9E38FA3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Tahoma"/>
              </a:rPr>
              <a:t>Elektronikus könyvtárak: könyv- és cikkgyűjtemények az Interneten</a:t>
            </a:r>
            <a:r>
              <a:rPr b="0" i="1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UNOPAC - Könyvtári információ Magyarországon (http://www.mek.iif.hu/porta/virtual/magyar/opac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agyar Elektronikus Könyvtár - Virtuális világkönyvtár (http://mek.oszk.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Digitális Könyvtár és Multimédia Központ (http://www.neumann-haz.hu/index.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WebKat.hu - a magyar kulturális örökség körébe tartozó, az Interneten elérhető dokumentumok Online katalógusa  (http://www.neumann-haz.hu/scripts/webk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z Országos Közoktatási Intézet Online publikációi (http://www.oki.hu/index.ph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-könyvtár.lap.h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F18-9F7F-4D9F-9E0B-F1F15A512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Kutatások az internet használatáró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A Voxline Kft.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2002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gazdasági főiskolások és egyetemek hallgatóinak körébe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észtvevők 88%-a legalább hetente internetezik, közel fele naponta további egyharmada hetente többszö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40% az iskolai és kollégiumi gépeken, 35% otthon, 11% a munkahely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ggyakrabban 1. levelezésre, 2. speciális információk megszerzésére, 3. letöltésre, 4. tanuláshoz használjá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553-CC70-48EF-9DC4-4E6E34B33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Fábián Zoltán: Digitális írástudás: a számítógép és az internet használat elterjedtségének társadalmi jellemzői Magyarorszá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z iskolában tanulók többsége hetente többször használja a számítógépe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 felsőoktatásban részt vevőknek mintegy kétharmada, a középfokú oktatásban tanulóknak pedig valamivel több mint a fele használ legalább heti rendszerességgel iskolai számítógépe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zen belül a felsőoktatásban a középfokú oktatáshoz képest magasabb arányban fordulnak elő olyanok, akik naponta vagy majdnem mindennap használnak számítógépet az iskoláb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18E-C00E-41FB-AF9F-F606176CC8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MTA Szociológiai Kutatóintézete: Magyarország kulturális állapota az EU-csatlakozás küszöbén – a sorozat 4. kötet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14-70 éves népesség olvasási szokása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18-29 évesek 41%-a szokott internetezni, 35%-a havi rendszeresség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Tahoma"/>
              </a:rPr>
              <a:t>többnyire azok közül kerülnek ki, akik könyveket is olvasn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internetes olvasók 4 típus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intenzív fiatalos” – „mindenevők”-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ulvár fiatalos” – szórakozás, kikapcsolódás, érdekességek keresése, könnyedebb témák - 25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munkamániások” – munkájukkal, tanulmányaikkal kapcsolatos írásokat, szakirodalmat keresnek -  37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érett kulturális” – munka, tanulás, hírolvasás mellett a kultúra, az egészség, az utazás is szerepel -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3D5-F6F8-4C81-897E-54BEC3733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6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- Lenhardt Ildikó: Az egyetemisták olvasási szokás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PTE 10 karán 160 kérdőív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ipotézisük kiindulópontja az olvasás háttérbe szorulása –  a „Nagy Könyv” – mint televíziós műsor pozitív befolyásoló ere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Összegzé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pécsi egyetemisták 57%-a olvas könyvet, s ezt nagyobb arányban szórakozásból teszi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intézményi keretek rányomják bélyegüket a korosztály olvasási szokásaira, ami az oktatói ajánlások magas arányában mutatkozik meg. Nem meglepő a barátok fontossága sem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elvárttól messze elmarad az egyetemisták olvasási kedve - a tanulmányokhoz szükséges szakkönyvek és az igényesebb irodalom teré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4B4-09A5-4930-838F-38FBE191AC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kutatásró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aposvári Egyetem Csokonai Vitéz Mihály Pedagógiai Főiskolai Kar I. és II. évfolyamos tanító és tanár szakos hallgatóinak számítógéphasználati szokás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önkéntes részvét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iosztott 200 kérdőívből 113-et kaptam vissz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nemek megoszlása: 88 nő, 25 fér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640-FEC8-4B1F-A783-849BE7738B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zak szerinti megoszl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I. évfoly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formatikus könyvtáros – Magyar szak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gyar – Tanulásban akadályozottak pedagógiáj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6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gyar – Logopédia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6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bből műveltségterület szerint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zuális nevelé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észetismere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nevelé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gen nyel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ik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Ének-ze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tematik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jelölés nélkü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Tanulásban akadályozottak pedagógiáj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Hitoktat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Logopédia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. Évfoly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jz – Vizuális kommunikáci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8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A64-614A-4D92-8EA7-0245B1EEC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tatási cél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llgatók számítógép- és internet-ellátottsá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sználat helyszín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sználat gyakorisága és cél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eresési módszerek ismer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akmai portálok, linkek, címek ismerete és használatának gyakorisá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önyvolvasás vagy internetes olvas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AC6-B68D-4801-88A5-6DA1886432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ámítógép- és internet-ellátottsá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n-e otthon számítógépe: van 112 fő, nincs 1 f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n-e otthon internet-elérése: van 78 fő, nincs 35 f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ol használ számítógépet,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ternet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Ottho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1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76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Szüleim munkahelyé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Lakóhely könyvtárá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Internetklub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Teleházban: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Kollégium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gy. könyvtár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gy. számgéptermeibe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04B-F60A-4E99-8B15-F67B03F5E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zámítógépes kommunikáci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ámítógép – kommunikációs eszkö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mber-gép, ember-ember kommunikációjának médi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ilágméretű kommunik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lobális kulturális örökség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iség külső memóriáj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datbázisokban tájékozó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udásanyagban kalando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EE5-EAF9-466E-9851-58353E3B2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re használja a számítógép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Játék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övegszerkeszt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7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gy. fela. elkészítése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Internet-elér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Olvasás 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mail-levelez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0F6-DC83-4A01-BBB3-8516F94E6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ióta használja az internetet a weben való információkeresés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2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4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 fő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-6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öbb mint 6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7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Átlagosan mennyi időt tölt a tanulmányaihoz kapcsolódó információkereséssel het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enny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él óránál kevesebb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½ - 1 óra közöt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3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5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-8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óránál több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43C-36A1-40CD-A320-BB4AFD8866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Átlagosan mennyit időt tölt nem a tanulmányaihoz szükséges információkereséssel he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enny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él óránál kevesebb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f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½-1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3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5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8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óránál több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97D-1E9D-4BAD-8030-C28CBE4C51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mail-levelezés gyakorisága het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0-1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-4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5-8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-12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3-16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6 levél felett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2C4-2CA2-4946-A0F7-8B8EDC0C3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nternet-használat célja, gyakorisá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82600" y="2017800"/>
          <a:ext cx="7772400" cy="42447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tk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vo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t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po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munikáci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-mail, csevegé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áció keresése magáncélbó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áció keresése tanulásho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ul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ügyek intézé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órumoz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órakozás, játé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799-8C3B-4263-A57C-35AC36C11D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anulmányokhoz kapcsolódó számítógép-használat (használati gyakoriság szerint kialakult sorren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adandó feladatok elkészítése szövegszerkesztő használat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lőadás elkészítése szövegszerkesztő és/vagy …. használat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adandó feladatok elkészítése szövegszerkesztő és …. használatáv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anulmány készítéséhez szakirodalom keresése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ltúrával, művészetekkel kapcsolatos olvasás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telező szakirodalom olvasása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jánlott szakirodalom olvasása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FE7-8546-4902-849C-F234BC9B2E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anulmány- és kiselőadás készítésekor egyéb programok használ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2017800"/>
          <a:ext cx="7488000" cy="404172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adandó fel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selő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wer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oto Shop (rajz-vizuális komm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el Draw (rajz-vizuális komm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wer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oto Shop (R-V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BD9-16FA-4E68-B0CA-37A2D388F0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ogyan szokott információt keresni a web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 válaszolt: 4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ereső használata (megnevezés nélkül) 2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nkrét keresők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oogle 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tartlap: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ltavizsla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rig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rzor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BD6-7CF4-4A76-B458-977CDF1302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onkrét c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 tudom: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önyvtár (leggyakrabban OSZK):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matikus portál (…lap.hu):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datbázisok (pl. matarka):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113-8256-4FB2-B4BB-BD32DACD6F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resési módszerek ism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2600" y="2017800"/>
          <a:ext cx="7772400" cy="40161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ódsz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csit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özepesen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ól ismer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gyon jól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rét cím beír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 szerinti katalóg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eső-rends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F4B-B9F6-45E5-BDB0-56CDE14222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kai nyelvstratégiá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émánk szempontjából kiemelt hely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tanárképzésben, a felsőoktatásban és a közoktatásban kiemelten kell kezelni az információs kultúra, benne az internet és az internetes nyelvhasználat jelenségeinek az oktatását. A tanárképző intézetekből olyan szakembereknek kell kikerülniük, akik képesek az internet ismeretének és alkalmazásának a tanítására és a szakterületükön való hatékony használatára” (Bód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35B-0075-4BF1-AE68-D31AD1F74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Az internet instrumentális használat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- legnagyobb mértékű a mindenn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munikációba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69,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szerzésben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63,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(magáncélból 40% és a tanulmányokhoz 23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tanulási tevékenységb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napont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etente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53,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(bankügyek intézésére 85 fő, fórumozásra 65 fő egyáltalán nem használj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237-CA2C-438E-BCB7-24AC65BFBB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 2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eresőrendszerek, módszerek haszná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2% a keresőt használja (az eszközre támaszkodi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9,2% konkrét címet ír be (DE: többségük csak 1-2 címet ism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,9% téma szerinti katalógusban keres (DE: az informatikus könyvtáros szakosok teszik ki ennek 85%-á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9FF-E804-4438-886E-A176234B94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 olvasási művelet megoszl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tok, szakirodalom keresése előadáshoz, dolgozatho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meretbővítés, -kiegészí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lturális, művészeti tájékozódás (legnagyobb mértékben a rajz – vizuális kommunikáció szakos hallgató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9AA-7057-4D40-B8E0-A92438C72B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etések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akirodalom keresési gyakorisága 7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allgatók a megtalált információk megbízhatóságát nem ellenőrz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ámítógépes szakirodalom-keresésnek nyelvi korlátai vann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zinte teljes mértékű a magyar nyelvű szakirodal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gen nyelvű szakirodalmat a Tanító szak idegen nyelvi műveltségterületének hallgatói keresnek – más szakosok közül 7 fő jelez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5CE-5DBC-4657-BF4A-E737713433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önyvből olvasá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órakozási célból olvasott könyvek 95%-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ötelező és ajánlott olvasmányok 95%-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ötelező szakirodalom olvasása 7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en olvasá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 nincs bent (meg) a könyvtárb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atal magyar írók művei és szakirodalom – oktatói ajánlás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11C-59D5-4CB4-992E-769C80CCF1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odal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akonyi Géza: Szürke irodalom és kommunikációs modell. Könyvtári Figyelő 46. évfolyam 2000. 4. szá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ódi Zoltán: Az írás és a beszéd viszonya az internetes interakcióban. Magyar Nyelvőr www.c3.h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Csík Tibor: Információs műveltség és oktatásügy 2006. (Kempelen Farkas Digitális Tankönyvtá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Fábián Zoltán: Digitális írástudás: a számítógép és az internet-használat elterjedtségének jellemzői Magyarországon (elektronikus változat 20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Internet és pedagógia. </a:t>
            </a:r>
            <a:r>
              <a:rPr b="0" lang="hu-HU" sz="1600" spc="-1" strike="noStrike">
                <a:solidFill>
                  <a:srgbClr val="1c1c1c"/>
                </a:solidFill>
                <a:latin typeface="Tahoma"/>
              </a:rPr>
              <a:t>www.gallup.hu/Oktatás/ip/konyv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Leinhardt Ildió: Az egyetemisták olvasási szokása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MTA Szociológiai Kutatóintézete: Magyarország kulturális állapota az EU-csatlakozás küszöbén 4. köt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Nyíri Kristóf: Az írásbeliségről és néhány új médiumról. www.communitacio.hu/konyvek/beres_horanyi_tarsadalmi_kommunikacio/nyiri_kristof_az_irasbelisegrol_és_nehany_uj_mediumrol.DO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letöltés: 2007. 04. 14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FC0-B57A-4FC4-BE30-8A3A6D4701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99"/>
                </a:solidFill>
                <a:latin typeface="Tahoma"/>
              </a:rPr>
              <a:t>Olvasás és internetes olvasás – élvezeti, információszerző, „infotaintment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agyományos olvas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élveze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olvasás az intern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formációszerző és „infotaintmen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ktív közreműködés + olvasásra készte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lelapo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szerzés, -gyűjtés, tájékozó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datbányásza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48A-5189-42B2-9983-754A92912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z élvezeti olvasá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vékenysé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élyülésre késztet a szöveg világában (beleélő, beleérző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 tűr meg vele egyidejű tevékenysé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denhol olvashatóság, kézbefoghatóság, szempihentetés, papírillat igény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671-18E4-4088-8BCD-F20C10091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z információszerző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ka (mód, művel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vésbé elmélyül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llózgató jelleg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yorsab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zelektíveb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-lineá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53D-FF70-4430-8AC2-16ACBF141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„infotaintment”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órakozás és informálódás összefonód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olvasás csak forma, keret, amikor a felhasznál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barang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evel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órumokon, chateken vesz rés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551-3B6D-4620-B4B1-B4A1E52FB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zámítógéppel mint eszközzel való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evésbé önálló, autonóm tevékenysé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lkalmazott, heteronóm olvasási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műve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z olvasáskultúrát felváltó televíziós-informatikai kultúra alkalmazott olvasásmódja (Radnóti Sánd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m-lineáris, sietős, töredékes, pontszer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lektí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lapozgatás a művekben (nem elejétől a végéig olvasá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171-5CD9-4E37-A41D-10A89559A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nternet mint könyvtá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ézikönyvek, adattárak, cikkek, tanulmányok, digitalizált dokumentum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példáu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Online kézikönyvtár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xikonok (</a:t>
            </a:r>
            <a:r>
              <a:rPr b="0" lang="hu-H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gallup.hu/Oktatas/ip/lexikon.htm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ótárak (www.gallup.hu/Oktatas/ip/szotar.h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Online periodikák: az internetes sajtó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www.lap.hu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újság-link gyűjtemény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idéki lapok régiónként a lap.hu linkgyűjteményében (http://regioujsag.lap.h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BAF-C324-4687-B35A-422D46B18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09:48Z</dcterms:created>
  <dc:creator>Hajdics Győző</dc:creator>
  <dc:description/>
  <dc:language>en-US</dc:language>
  <cp:lastModifiedBy>Hajdics Győző</cp:lastModifiedBy>
  <dcterms:modified xsi:type="dcterms:W3CDTF">2007-04-17T12:47:58Z</dcterms:modified>
  <cp:revision>9</cp:revision>
  <dc:subject/>
  <dc:title>Olvasás az interneten Mit, miért, hogyan olvasnak a leendő pedagógusok</dc:title>
</cp:coreProperties>
</file>