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872-9663-4992-80FC-C206B106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CFC-E474-4A8A-82F3-47A1D10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22D-B897-4071-9D84-D57F59FA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A0F-DCAE-49BE-863B-50D86B23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A87C-8C0F-46EC-B9BC-BF1D4722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2F57-102C-4107-9D8D-E2F18DF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B3D4-139C-4FAB-A1F5-8B3DF6C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9202-89DB-4F0A-9708-B0200F69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33E4-B238-47E3-9331-CD48A2EE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B0E2-F631-4F51-97C1-437E730D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2D4F-CDA6-445E-930D-07C017C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129-BA5E-4274-B062-7B59C79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00C-89B8-447D-BE55-55485F2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5AAA-A802-4636-BBC2-5F80888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8F7-6235-41BC-AFB3-11C4464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A79-8137-4B8F-AC6B-C9DB3E0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B44A-9E74-4F3A-A1F0-0264E537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1C7-5EB0-4AE6-9B83-842D9F3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429-912D-4E74-AE54-0D47B4B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7F2-4012-4484-8F73-9C028B8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19A-7421-4331-8F07-397F7DC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28D-1EBD-417A-98E6-36DF237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789-613F-449C-9427-068D129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F02-6D71-4734-8B67-401730A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CFA-D47C-42AF-A0B1-4A2E3BF11550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9152-775D-4FF4-9910-5BB8E3CF80B8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llup.hu/Oktatas/ip/lexikon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Olvasás az interneten</a:t>
            </a:r>
            <a:br>
              <a:rPr sz="4000"/>
            </a:b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Mit, miért, hogyan olvasnak a leendő pedagógus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jdicsné Dr. Varga Katalin P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aposvári Egye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gyar Nyelvészeti és Irodalmi Tanszé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BF6F-1736-4364-B867-0738F3F5A5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Nyomtatott könyvek és cikkek Online katalógus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gyar könyvtárak katalógusa (a LibriVision 15 adatbázisa: az OSZK / Online olvasói katalógus / Magyar könyvtárak katalógusai ) (http://nektar2.oszk.hu/librivision_hun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ungarika Információ (http://www.iif.hu/db/huni/index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gyetemi és főiskolai tankönyv adatbázis (http://www.iif.hu/db/efta/index.ht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A28-0C1B-4E79-8C75-BA98D76B8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 u="sng">
                <a:solidFill>
                  <a:srgbClr val="000000"/>
                </a:solidFill>
                <a:uFillTx/>
                <a:latin typeface="Tahoma"/>
              </a:rPr>
              <a:t>Elektronikus könyvtárak: könyv- és cikkgyűjtemények az Interneten</a:t>
            </a:r>
            <a:r>
              <a:rPr b="0" i="1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UNOPAC - Könyvtári információ Magyarországon (http://www.mek.iif.hu/porta/virtual/magyar/opac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Magyar Elektronikus Könyvtár - Virtuális világkönyvtár (http://mek.oszk.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Digitális Könyvtár és Multimédia Központ (http://www.neumann-haz.hu/index.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WebKat.hu - a magyar kulturális örökség körébe tartozó, az Interneten elérhető dokumentumok Online katalógusa  (http://www.neumann-haz.hu/scripts/webk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z Országos Közoktatási Intézet Online publikációi (http://www.oki.hu/index.ph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-könyvtár.lap.h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46B-7B61-450F-AC25-B051A6964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Kutatások az internet használatáró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A Voxline Kft.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2002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gazdasági főiskolások és egyetemek hallgatóinak körébe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résztvevők 88%-a legalább hetente internetezik, közel fele naponta további egyharmada hetente többszö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40% az iskolai és kollégiumi gépeken, 35% otthon, 11% a munkahely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ggyakrabban 1. levelezésre, 2. speciális információk megszerzésére, 3. letöltésre, 4. tanuláshoz használjá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967-7EA1-4E9D-A1D3-04DDE410C3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– Fábián Zoltán: Digitális írástudás: a számítógép és az internet használat elterjedtségének társadalmi jellemzői Magyarorszá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z iskolában tanulók többsége hetente többször használja a számítógépe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 felsőoktatásban részt vevőknek mintegy kétharmada, a középfokú oktatásban tanulóknak pedig valamivel több mint a fele használ legalább heti rendszerességgel iskolai számítógépe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zen belül a felsőoktatásban a középfokú oktatáshoz képest magasabb arányban fordulnak elő olyanok, akik naponta vagy majdnem mindennap használnak számítógépet az iskoláb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A87-9241-413F-9A35-DE156D3AB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MTA Szociológiai Kutatóintézete: Magyarország kulturális állapota az EU-csatlakozás küszöbén – a sorozat 4. kötet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14-70 éves népesség olvasási szokása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18-29 évesek 41%-a szokott internetezni, 35%-a havi rendszerességg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Tahoma"/>
              </a:rPr>
              <a:t>többnyire azok közül kerülnek ki, akik könyveket is olvasn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internetes olvasók 4 típus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intenzív fiatalos” – „mindenevők”-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ulvár fiatalos” – szórakozás, kikapcsolódás, érdekességek keresése, könnyedebb témák - 25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munkamániások” – munkájukkal, tanulmányaikkal kapcsolatos írásokat, szakirodalmat keresnek -  37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érett kulturális” – munka, tanulás, hírolvasás mellett a kultúra, az egészség, az utazás is szerepel -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DA8-9A92-448A-9B97-0A0089167C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2006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- Lenhardt Ildikó: Az egyetemisták olvasási szokása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PTE 10 karán 160 kérdőív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ipotézisük kiindulópontja az olvasás háttérbe szorulása –  a „Nagy Könyv” – mint televíziós műsor pozitív befolyásoló ere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Összegzé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pécsi egyetemisták 57%-a olvas könyvet, s ezt nagyobb arányban szórakozásból teszi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intézményi keretek rányomják bélyegüket a korosztály olvasási szokásaira, ami az oktatói ajánlások magas arányában mutatkozik meg. Nem meglepő a barátok fontossága sem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elvárttól messze elmarad az egyetemisták olvasási kedve - a tanulmányokhoz szükséges szakkönyvek és az igényesebb irodalom teré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EB6-E0B4-4970-80B7-126285925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kutatásró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aposvári Egyetem Csokonai Vitéz Mihály Pedagógiai Főiskolai Kar I. és II. évfolyamos tanító és tanár szakos hallgatóinak számítógéphasználati szokás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önkéntes részvét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iosztott 200 kérdőívből 113-et kaptam vissz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nemek megoszlása: 88 nő, 25 fér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137-64B6-4589-9491-8B7D30D68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zak szerinti megoszl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I. évfoly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formatikus könyvtáros – Magyar szak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gyar – Tanulásban akadályozottak pedagógiáj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6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gyar – Logopédia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6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bből műveltségterület szerint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izuális nevelé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észetismere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nevelé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gen nyel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chnik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Ének-ze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tematik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jelölés nélkü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Tanulásban akadályozottak pedagógiáj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Hitoktat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nító – Logopédia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. Évfoly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jz – Vizuális kommunikáció szak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8 fő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CD6-34EA-4B58-B7C3-BC39F1DECE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tatási cél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llgatók számítógép- és internet-ellátottsá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sználat helyszín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használat gyakorisága és cél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keresési módszerek ismer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akmai portálok, linkek, címek ismerete és használatának gyakorisá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önyvolvasás vagy internetes olvas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D5-30F1-45CD-ACBB-849201CD3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Számítógép- és internet-ellátottsá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n-e otthon számítógépe: van 112 fő, nincs 1 f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an-e otthon internet-elérése: van 78 fő, nincs 35 f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Hol használ számítógépet,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ternet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Ottho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1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76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Szüleim munkahelyé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Lakóhely könyvtárá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Internetklub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Teleházban: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Kollégium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gy. könyvtárba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9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Egy. számgéptermeiben: 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E29-63AF-4C66-9ACD-00900E0E4F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zámítógépes kommunikáci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ámítógép – kommunikációs eszkö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mber-gép, ember-ember kommunikációjának médi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ilágméretű kommunik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lobális kulturális örökség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z emberiség külső memóriáj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datbázisokban tájékozó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udásanyagban kalando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230-95C1-468A-8E97-DEC124F1C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re használja a számítógép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Játék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övegszerkeszt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7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gy. fela. elkészítése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Internet-elér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Olvasás 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Email-levelezés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9A5-3D13-4D1F-8FD0-99AAEEA66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ióta használja az internetet a weben való információkeresés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2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4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 fő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-6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öbb mint 6 é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7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Átlagosan mennyi időt tölt a tanulmányaihoz kapcsolódó információkereséssel het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enny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él óránál kevesebb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½ - 1 óra közöt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3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-5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-8 órá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óránál több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f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3D6-497D-4FB5-B278-3863C44B4C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Átlagosan mennyit időt tölt nem a tanulmányaihoz szükséges információkereséssel he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enny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él óránál kevesebb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f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½-1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3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5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8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 órá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óránál több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5EC-410A-4790-8DBC-6FDC20E44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mail-levelezés gyakorisága het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0-1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-4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5-8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9-12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3-16 levél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16 levél felett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253-B8C8-4A8C-940B-FFEF59F2F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nternet-használat célja, gyakorisá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82600" y="2017800"/>
          <a:ext cx="7772400" cy="42447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tk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vo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t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po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munikáci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-mail, csevegé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áció keresése magáncélbó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áció keresése tanulásho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nul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ügyek intézé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órumozá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zórakozás, játé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E69-8F82-4F7B-9DBE-87E316DFBD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anulmányokhoz kapcsolódó számítógép-használat (használati gyakoriság szerint kialakult sorren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adandó feladatok elkészítése szövegszerkesztő használat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lőadás elkészítése szövegszerkesztő és/vagy …. használatá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adandó feladatok elkészítése szövegszerkesztő és …. használatáv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anulmány készítéséhez szakirodalom keresése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ltúrával, művészetekkel kapcsolatos olvasás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ötelező szakirodalom olvasása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jánlott szakirodalom olvasása az interne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015-3AD4-45E8-8771-8057AEF9B9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anulmány- és kiselőadás készítésekor egyéb programok használ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2017800"/>
          <a:ext cx="7488000" cy="404172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adandó fel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selő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wer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oto Shop (rajz-vizuális komm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el Draw (rajz-vizuális komm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wer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oto Shop (R-V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E5C-3178-4923-A644-038F068283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ogyan szokott információt keresni a web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em válaszolt: 4 f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ereső használata (megnevezés nélkül) 2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onkrét keresők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oogle 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tartlap: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ltavizsla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rig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urzor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446-59FC-4838-869E-1EAA451AEB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onkrét c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a tudom: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önyvtár (leggyakrabban OSZK):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ematikus portál (…lap.hu):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datbázisok (pl. matarka):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142-4E00-4E2C-8E68-18319ADA30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resési módszerek ism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2600" y="2017800"/>
          <a:ext cx="7772400" cy="40161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ódsze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csit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özepesen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ól ismer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gyon jól ismer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rét cím beír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 szerinti katalóg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eső-rends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E89-EB06-409B-AC46-4B8A3E9818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kai nyelvstratégiá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émánk szempontjából kiemelt hely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tanárképzésben, a felsőoktatásban és a közoktatásban kiemelten kell kezelni az információs kultúra, benne az internet és az internetes nyelvhasználat jelenségeinek az oktatását. A tanárképző intézetekből olyan szakembereknek kell kikerülniük, akik képesek az internet ismeretének és alkalmazásának a tanítására és a szakterületükön való hatékony használatára” (Bód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9D7-25C0-4D66-8D6A-CCE14DBF9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Az internet instrumentális használata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- legnagyobb mértékű a mindenn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mmunikációba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69,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szerzésben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63,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(magáncélból 40% és a tanulmányokhoz 23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tanulási tevékenységben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napont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hetente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53,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(bankügyek intézésére 85 fő, fórumozásra 65 fő egyáltalán nem használj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836-F967-4862-9246-A06AF6453A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 2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eresőrendszerek, módszerek haszná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2% a keresőt használja (az eszközre támaszkodi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9,2% konkrét címet ír be (DE: többségük csak 1-2 címet ism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,9% téma szerinti katalógusban keres (DE: az informatikus könyvtáros szakosok teszik ki ennek 85%-á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1BD-0062-4C19-B000-BEE0BCFC22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ek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 olvasási művelet megoszl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tok, szakirodalom keresése előadáshoz, dolgozatho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meretbővítés, -kiegészí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lturális, művészeti tájékozódás (legnagyobb mértékben a rajz – vizuális kommunikáció szakos hallgató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7F3-E6D2-4EBD-9264-6C17FF8CD1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etések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akirodalom keresési gyakorisága 7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allgatók a megtalált információk megbízhatóságát nem ellenőrz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ámítógépes szakirodalom-keresésnek nyelvi korlátai vann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zinte teljes mértékű a magyar nyelvű szakirodal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gen nyelvű szakirodalmat a Tanító szak idegen nyelvi műveltségterületének hallgatói keresnek – más szakosok közül 7 fő jelez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99C-D7F1-4FCE-9BE7-D7708AD522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övetkeztetés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önyvből olvasá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órakozási célból olvasott könyvek 95%-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ötelező és ajánlott olvasmányok 95%-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ötelező szakirodalom olvasása 7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en olvasá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 nincs bent (meg) a könyvtárb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atal magyar írók művei és szakirodalom – oktatói ajánlás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B8D-A44B-43A6-8C35-C9B1B1FADA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odal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akonyi Géza: Szürke irodalom és kommunikációs modell. Könyvtári Figyelő 46. évfolyam 2000. 4. szá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Bódi Zoltán: Az írás és a beszéd viszonya az internetes interakcióban. Magyar Nyelvőr www.c3.h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Csík Tibor: Információs műveltség és oktatásügy 2006. (Kempelen Farkas Digitális Tankönyvtá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Fábián Zoltán: Digitális írástudás: a számítógép és az internet-használat elterjedtségének jellemzői Magyarországon (elektronikus változat 20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Internet és pedagógia. </a:t>
            </a:r>
            <a:r>
              <a:rPr b="0" lang="hu-HU" sz="1600" spc="-1" strike="noStrike">
                <a:solidFill>
                  <a:srgbClr val="1c1c1c"/>
                </a:solidFill>
                <a:latin typeface="Tahoma"/>
              </a:rPr>
              <a:t>www.gallup.hu/Oktatás/ip/konyv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Leinhardt Ildió: Az egyetemisták olvasási szokása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MTA Szociológiai Kutatóintézete: Magyarország kulturális állapota az EU-csatlakozás küszöbén 4. köt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Nyíri Kristóf: Az írásbeliségről és néhány új médiumról. www.communitacio.hu/konyvek/beres_horanyi_tarsadalmi_kommunikacio/nyiri_kristof_az_irasbelisegrol_és_nehany_uj_mediumrol.DO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letöltés: 2007. 04. 14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C65-8F3C-4043-9A65-BEA26705DF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99"/>
                </a:solidFill>
                <a:latin typeface="Tahoma"/>
              </a:rPr>
              <a:t>Olvasás és internetes olvasás – élvezeti, információszerző, „infotaintment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hagyományos olvas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élveze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olvasás az intern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formációszerző és „infotaintmen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ktív közreműködés + olvasásra készte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elelapo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formációszerzés, -gyűjtés, tájékozó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datbányásza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890-F408-404D-A082-75CF3FC1DC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z élvezeti olvasá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vékenysé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élyülésre késztet a szöveg világában (beleélő, beleérző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 tűr meg vele egyidejű tevékenysé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denhol olvashatóság, kézbefoghatóság, szempihentetés, papírillat igény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170-820C-4D6E-A86A-A03875C1F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z információszerző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ka (mód, művel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vésbé elmélyül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llózgató jelleg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yorsab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zelektíveb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-lineá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10F-CA05-4FFB-A53F-8A17B984B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„infotaintment”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szórakozás és informálódás összefonódá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olvasás csak forma, keret, amikor a felhasznál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barang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evel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órumokon, chateken vesz rés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C90-CFCE-4713-9965-C54F398A1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zámítógéppel mint eszközzel való olvas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evésbé önálló, autonóm tevékenysé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lkalmazott, heteronóm olvasási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ahoma"/>
              </a:rPr>
              <a:t>műve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z olvasáskultúrát felváltó televíziós-informatikai kultúra alkalmazott olvasásmódja (Radnóti Sánd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m-lineáris, sietős, töredékes, pontszer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elektív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: lapozgatás a művekben (nem elejétől a végéig olvasá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5CC-55A1-460D-B42A-1836EA302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z internet mint könyvtá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ézikönyvek, adattárak, cikkek, tanulmányok, digitalizált dokumentum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példáu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Online kézikönyvtár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Lexikonok (</a:t>
            </a:r>
            <a:r>
              <a:rPr b="0" lang="hu-HU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gallup.hu/Oktatas/ip/lexikon.htm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ótárak (www.gallup.hu/Oktatas/ip/szotar.h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Online periodikák: az internetes sajtó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ahoma"/>
              </a:rPr>
              <a:t>www.lap.hu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újság-link gyűjtemény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idéki lapok régiónként a lap.hu linkgyűjteményében (http://regioujsag.lap.h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72D-3223-41EF-80C8-9CDA24FE74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09:48Z</dcterms:created>
  <dc:creator>Hajdics Győző</dc:creator>
  <dc:description/>
  <dc:language>en-US</dc:language>
  <cp:lastModifiedBy>Hajdics Győző</cp:lastModifiedBy>
  <dcterms:modified xsi:type="dcterms:W3CDTF">2007-04-17T12:47:58Z</dcterms:modified>
  <cp:revision>9</cp:revision>
  <dc:subject/>
  <dc:title>Olvasás az interneten Mit, miért, hogyan olvasnak a leendő pedagógusok</dc:title>
</cp:coreProperties>
</file>